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986F-4DFD-491D-AD7A-423C6E739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2CD9-E3CF-4C2D-A0EE-9BEBEC7500B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00F49A-9DA5-4A30-B385-9DA5BAE9CCA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A955A6-04C1-4FF2-90F1-C1B908CEE38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B8D8F4-7B71-4F5D-900F-CB9665D356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05C09E-9C36-4E9F-882D-1FA4527A32D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D0C67D-256D-4EAB-9251-A0FF93373BB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315827-1BD8-4DDE-8E8A-A6F98A68E5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32F940-FDEF-489A-9BE2-26A50D9D03C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B87D57-A1EC-43B6-9722-60E467EADF4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5D8C16-9448-40DF-A386-03462511469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C1095-E727-4E5F-8A0A-D6EBE2BA9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7C17-2A7E-45AC-80B6-F6B185AE0AF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13387-3924-4CF6-800D-543B337E7BB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D077F-6C77-46F2-B9B4-20566C89AD6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25CDE-E42B-465E-A27E-974F807F25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C9A78-8587-4876-B7E1-692592563F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D2AA3-DED0-4F99-96A9-FFD57BFD5A7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ACCEEA-79C7-4E17-94D8-01A07FFFB5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E49D5-6321-427D-B89F-881DFC0B8C7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E0FC0-9FFD-4FA2-B32B-76E47C979C9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5C526-2F06-462A-B858-18FC7B79A40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42318-496A-4E08-8F98-5A02EAC41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E1D2-B21C-4555-9BE1-48355D93939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69A60-20D7-414E-A4C9-066B31D52D7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C43B5-7F38-4465-A3FD-423CEC094D7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A4494-5A45-4400-A1A8-CF2C564D8DA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8CEDE-B945-4905-9E93-92F18939AD1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C7CD7-CFA4-4106-BCF8-B1E1CCF3E2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4EE0-671E-4E2C-9D5B-AA0F719C793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2C695-0DB3-492E-B0A0-EA4739B57C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58E7F-DE28-44B0-BF08-722FC3FB9CB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B445C-85A4-4505-9EF4-3D357425886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67AA8-81E3-4A48-84CF-570CF9159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41D51-C633-40CF-8ACF-E718A797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395CC-4C79-4DE9-B275-E886A1580D8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53654-9DF0-433E-A1D6-3C0D275FA1C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22BD8-326A-4266-876B-A568C401B12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B9B786-85CF-4986-BA88-FB0A4C42360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B47EA3-0D3A-4138-B24C-70712DBE8E9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F35DC2-ABB1-45A3-9A66-60747019125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00B059-4F96-4195-BACA-9B7028C6383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A3CD7B-5DB8-4BC5-AF3A-43440FDBED1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5CDE2C-345D-48CE-95EA-6E29C84C746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BA20DC-7107-4426-98CE-2CF81ACB2B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C5082-E832-4F43-B51B-166467BA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66C3FC-2D6E-4DF0-90F3-3E961FE03FF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EB4BE9-D169-4445-83CC-CCDE33283F6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ACAFEF-378B-4249-9525-98FA18EE802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47B597-DD1F-4537-97B2-14B5D0CC5D6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B32A3D-4BA1-4FFD-A3C9-2E846AC0EDE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55C8EB-DB7B-44DC-B5C0-DE2A20A466F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65948-DE0A-404C-A744-27FEEF7EFA2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2C470D-66AA-4D8E-BFB3-FC6395C4FCC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38FBA-913B-48ED-9C55-68FE9C74DB4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E6C62-3B33-4B52-8420-2096792ECF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FFDCD-BE27-43E8-8809-77C19C8D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076EE-AE4E-45CC-B7FE-3D02A7247FE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4D4188-F30F-4DDC-B9A0-788A1E4D86E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BA2720-7B36-433A-86A8-017525205AA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861BA-1042-4AE4-8434-7377236416E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98DDD5-5F0F-4620-96A2-BA247A75A96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3DFF2-DE57-45A5-B4AC-99D3DC11115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B15AB-646D-44B2-876A-7CB4B7F36D0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4FB34-5383-4CB4-B58F-65B2103F695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A0D51-F080-4854-8806-31E29080122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BB362-C55D-49D4-A9C8-8D90A3F6E9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D1857-924E-40BA-B0AE-BA8F52DB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DF921-AC34-484E-9759-6A0A9FA4FDB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19C5E-307F-4530-8B8A-0CC1BE0FD50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7B2B6-11C9-436D-BB36-3EFB13BE67D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7EA86-0E7F-469F-B0F0-E1C1D184665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F79E6-A526-4745-90EA-C1276D4CB7B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7C09-FE19-454C-9674-665240A412C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36798-A641-4588-8B27-1F5F1AA6D40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1D149-338D-4A06-B1CB-3EF75AEC35A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CB09A-E44F-4E3E-B852-7339FF88511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F90726-95AE-4D73-9305-D27FCE1941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76C20-F2A6-483C-AAC5-65C09F01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8CECC5-877C-4304-B92B-CD285E686EF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0F8DFD-B979-4733-A63A-3DB30F87D7A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C45EBA-8E84-4A83-AD51-A45EE69FFC3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46C177-A5DC-496C-B3FA-5993C75CD21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99100B-35CB-4A33-9CB7-9EA886BD74D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4ED99D-E811-4B34-9002-9BBC38AFB1D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3FC3D2-DAF5-4EE0-A609-CDE4CCB4905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A49C20-61F6-49B5-AD78-D3049AD3335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5F4C4A-834B-4E2E-9D09-4DF9DE4FF69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AD0F43-BFA7-4D4D-BF4E-244EA3DCDB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EA7AE-635B-41FB-8CA3-D59B41B2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CCDF25-491D-4525-8724-A6672F58506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716D53-81FA-469A-B491-BC2C0AEA7CB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ADF27-B22C-43AD-997F-1DA0FB49E6B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4B1471-5C1A-4A95-9F69-797D7176E01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FFD80C-11C0-446B-94AB-98FFCDA1554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74FED-3650-4969-8205-2F4EAA9DDB4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B0EA2F-04E1-493D-98DF-2B587BA2647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7BA449-ADF6-4CE5-83A8-5B882AF2DDA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4BA6D4-DD68-4FBE-A494-B92426F9FE3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D6AB1D-B104-42DC-A5FA-E6FF9266B1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3D325-545F-46CE-8537-036F4A63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2027D9-7073-4949-A1DC-383082F3CA5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3784D2-9EA3-422B-B4E2-D1CDC992374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D1DC92-EE86-4DCE-BF63-B81ACDBC1CF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A5BF6-5FCF-4A39-B3A1-5CAE71AE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812934-CBD0-4517-89D0-D9A0B69A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4593F4-81A2-4A9F-B20D-5586C719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5A4E99-FD61-49F3-ABDD-EEBD13DF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070DB-DDB6-4221-B143-CE3AC7E9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33DE3E-9CC5-4CF1-A1FF-B2DCF03F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B777A7-6F57-487A-8212-9684AF2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20F4-D896-4C8E-82F1-A10B81ACE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A79CA-414B-4B8D-8220-1AD39377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67D349-5BC9-47E8-A1ED-6D2EFC80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93354D-1C05-4574-94D7-F50566B6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95C90A-E1FD-4787-A93B-4F56959C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27960A-62ED-4EEC-9380-BBDF8D90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5A5E60-A520-4C1F-A55B-2418B936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EADF8D-9F07-4505-B43B-73576CC6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3798FF-D291-4ACF-BE1D-290C5FFF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0A06E5-F453-49C9-B1CA-3E001C3C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8C7291-F109-4A37-B5E2-F0BFDB07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F8A4DE-6A97-4489-9E05-CBA98C0B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95236-9FA9-4457-8A64-D4A69DCA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1FEB2A-FD4F-4B4E-9D16-DC5136AE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ADF403-F850-49CD-9520-CFFD1AE8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975F7D-9B7B-4D30-A16D-0C841C31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B8F39F-5111-4F3F-9679-B9EC411E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8BCD80-45FA-4778-A492-C6CD3D21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842EF2-8AEF-4A2E-94C3-618C21CE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BC298D-7FAE-4F29-98A5-895414BB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AA7B6D-10C1-40AA-BC2A-1F15EA39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2D7BB2-45AF-4FC0-B9F1-D1536813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00D2AB-CD14-46A4-86D4-B124EAC5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D603B-E691-4DAC-B78D-1013C50A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93F0E6-4E58-4C3E-BED8-04D30825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5AD73A-9522-454F-A665-A15B53C9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A7D6AD-C452-4EC8-935E-618D89CF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80DD1E-81EC-4414-9154-010090C7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D75F5F-94C6-4F04-958F-86732B29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203BA7-75CA-4B4C-AD6B-952DC729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F7017E-ADBC-4AD8-B1DD-913785E4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1CAA5A-2A21-4023-95AC-C3DC0523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7AD817-683C-498C-B715-D0D18BDB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E0A2A8-4AE7-43ED-8DCC-9A0163F4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3C5BB-3086-4BD5-A86F-31145A9E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D53234-4750-4199-9045-BBA7B449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892640-3FAA-4029-90AF-FF3C229C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173DC0-A5CD-4D44-96EA-DB1E711F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4138A6-1CF7-4060-8FEE-FE0D2E06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29186E-283F-4619-BE55-CFDB1B2E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080D23-1F59-432B-B3A4-67E033E4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654825-961F-422D-9DE7-9BCB2099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BBF912-73BE-4261-ACA1-C97B92F3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234293-1743-4850-A822-BD5A3C26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962209-CEEE-4280-A1C3-45E19EB6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EA9EE-08D3-4378-BBEE-7573FEEB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FBAF9F-3A8E-4394-9411-321859EC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1FF516-2F54-4578-A7FB-671D5BBE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DA69E2-08DE-4F2A-A896-7AB0A360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7E7159-09B3-44D5-A8ED-60AA8A67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1D3F3B-B3DC-4381-B508-07317FAE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93AE71-F8FF-46B0-8985-17C1BD93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011BB7-B083-4374-801A-600A9BA9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D11E76-1193-4BE3-BEA4-C02D3C55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07E5E6-DCBE-49BC-B3B9-F9120F85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522660-E114-45BA-9706-52FCAFD6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07AC8-6685-411C-B262-7027A824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80554E-ABAE-49B2-9630-235EBD9B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C58C54-24F3-4610-B1B2-0EA19689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27BBF7-20B0-43F7-88BD-1D9F1EB9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391A45-77C2-4972-90E0-09B75E3D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3BA234-0AAB-427B-A9D6-8AC7B9C0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B4AAAF-4BE9-4590-B7D7-FBA2E029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F0C716-45F1-4A6A-A75A-44A23DD5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30C86D-FA1A-42AF-96A5-326268A8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BEBEA0-4C4B-466E-B6AF-DAD4D9B1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9CDAF5-0DBD-4D3D-9175-D6390038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0A8381-9611-4872-B910-52B5321A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609AB6-BB58-41CF-81FD-163AF2D9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4984E4-80B5-425D-B8E1-9B3F8F24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6E458E-59B2-4DCE-A7A9-27740BC7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8EC806-7E3C-4E69-A94C-FCA4654F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6D85C7-6121-475E-BE24-62612B21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A7491E-5453-4CAE-8CF2-44B20E6E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B5F343-491D-44EE-97AF-47FFE3C4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9E3372-F369-45F2-9875-75C16737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BE4A32-8B50-4526-8C0B-E64AC21B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80566E-F2B2-438C-AA7B-29A9DF7A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C0642F-B396-4D35-8641-268BD80F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07BBCD-AC13-49DC-81F6-D993DD9C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F3950F-297F-4F46-B10E-F0D03FBF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9EBD0C-11F7-41BD-891C-0F36DFAD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A8AF31-64E7-4335-88BD-F282AB5A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A85303-54A5-4872-9F6F-1D2E613F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895A18-6C8C-4240-933E-DB0F5CA9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739F2B-6CBD-45F0-AF47-BE9CD7F2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5754EA-CD3B-4FD0-A7D9-707BCCDC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A40AE8-C9FE-4627-9EDB-A4E8EF2F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75ECA4-8638-4ECD-9734-C0BCBBE7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537D1C-0F4B-490F-917F-C55477F9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285330-5020-48FB-BD73-29459EEF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ECE188-8DAA-41E0-AA9B-B81B6C69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8C21E7-1B63-4B91-B81C-29C39170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2298FA-1E87-4B54-AA81-9BD344B3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32990D-4EEA-43E9-A542-497DEBA2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6DDA36-A923-4A75-AF4B-75B2B21D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CF8EE4-1A40-4DD9-8D9B-0874107A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F3C46F-56E1-4EC7-A18B-2256BCC1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16271D-97C1-4780-9C0D-7C41372F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C21BF20-F8EE-4E1F-AABB-EF037E3B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B26B9-B7AF-47CD-BEC8-A4FD2FF5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AAF8DD-A4BC-418B-917B-3209827A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68C113-D019-4E83-A1BB-FDFA58E6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32743CF-95D7-4474-B4A0-764D7F63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606EBA3-732E-4194-A521-67C9F0EE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C33C63-440A-4F42-9C4A-3CA41A60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4A75F49-663F-4E15-BD28-AFA6B50D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136834-AC72-49A5-8683-97279910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4DF84F5-5908-4ACE-BA64-A1450F1B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BCBC82-B063-4680-82A4-AE685230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50611B-29BA-4F73-BA23-F63988B2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D512-C2F7-4536-B3ED-E9CBDB764A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51C02-310B-48F4-9982-B0C7642D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DEB476-921D-4F7A-B54C-7F198D5D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909442-6A68-4628-B3C4-5A62264B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01580F-C6F5-4135-B525-F88782E9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66F34C-3359-40E0-A15D-B2C088BC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D73A53-A9F7-4B38-9B9C-618CE309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419EA81-829F-42BF-AC6F-E9B788FE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48FFB1-69D3-40B9-9449-0C33BD69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45ADFD0-B0C0-4E59-B557-055B313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DDC126-E6FE-4287-ABCD-8746798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5C4B842-C580-44CA-8347-2072270A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F4E2C-5BDE-4654-82D7-1C2F4BD5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BF2EA5-3884-404C-9DC9-FE3766BB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B86B84-3836-4C9B-9707-F9F26DB4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F932E4-6ACD-4494-9849-B4726589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0A2AE2D-BCB8-4844-BB6E-FDE8F92E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59C88B-8314-481F-B93B-A7D4274B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5AA8140-C111-4938-8A41-8EFFCE1E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1E3C892-6EFB-45D3-B4E5-ACC7A5F1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EC733CE-B270-4BA1-B8D5-CC200772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74C41CE-C7AD-45DE-BAC4-26DD00E2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C0C8D7-53FA-463C-B50D-1D7C771B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BE92C3-C433-4F9B-9E16-C14877B3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6D3D6F-F5EE-4C4D-B088-0BC95FD9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FFAB22-AF01-412A-9A8E-91F330B7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9C2D98-3AF2-4A41-A452-19E1E375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4140A1-8893-4739-994F-E404BE3F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7727A1-B2F7-4493-AC4D-7B60E505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F31707-E5B5-4078-8E14-2EA10AA2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238F3E3-9154-4783-AA96-B8EBDF7C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A844AD-8A9F-4B89-B91F-5D814971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A9F7322-1B7B-4165-8A77-885785FE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97F871-4988-40AE-85A7-5D2EE69C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BB2A6A-1FC1-4D99-A54A-6C577B35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C41C4D4-BEE9-47B5-9170-A8C2C793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3E8440-6A65-46DB-86C6-EE967394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F2D1A5-0184-47A8-9ADA-F6666E1A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3124BB-79E5-41BA-B57D-EF47C67A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CF3A4E-A629-4DA7-A3BF-B9D57B4C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A6AD1C2-FC20-419C-BA50-4CA10740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179391-0608-4166-B450-F4F34686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87A7FBE-84DE-4017-B3BF-01733881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2A784F5-57A7-4E59-A665-0470C90F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F77C247-A290-4914-895A-B28E28BB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34A39-FF52-45F4-BC60-8675A599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5EE3981-06A3-436F-8CA7-D8B4F3EA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B6A201D-AD28-4972-82F6-07816897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38498D3-2E92-4860-A9C0-C11A7154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6F1BF5F-7678-43A7-9F29-2359C967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201589-4E14-4DF7-9090-3FBEB7A1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94CF2EC-EF1E-4487-8836-D56F2A8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1677227-3AF7-4DF4-8167-92D54775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B4208A-9C7F-45B2-9667-A2339B9C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5100E61-740D-4107-8793-466C1749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C908DC6-DAE7-4670-BECD-AFB8D1D8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CE865-1786-4E70-BDFC-A7267F49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90B2D40-534B-4DF0-A450-CDB17D16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1DDF6F7-3A5A-4AC4-B347-B8EC5053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5CA8F95-86EE-4E4B-AC59-3AF0B035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0160620-DA5B-4C4F-9E99-B7877782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F8D9C7C-AF17-455B-A5DD-793B6BC4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DD2A7E2-AFF6-4BD4-AD4E-CC603326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41F931A-D821-4B8D-904D-8642C9B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D2F6172-FC51-48BF-BC58-B2DE10B2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D36FE9-8F3F-495C-8E59-A94C1F12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464DFF8-1DF7-43F5-ADF3-DD0C6E27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453F35-E25F-4BC6-865D-1CB435C3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F602E7F-A43D-4765-8BA4-02E39FD0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2DF7088-9DAF-4199-9DC4-B81DDE26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4D0B231-404E-49A5-A6EF-5F94CF12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C4F0E0B-0031-401C-875C-4A421883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72B58E4-5983-4367-ABA3-23445A28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C3BC138-545A-47B3-B8EF-A73E9310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25FFAE6-87FA-42D4-9868-60E30756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579BE7-D9EE-4928-9D23-077C30FF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D8A94B4-0563-43E3-83EC-CF50520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B27C6F0-F400-4DE9-AB02-8FD4764E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24D5-234D-42D8-90F2-92465E4B58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105C7C-1055-4D92-AF7D-984FAF39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33FBFE6-E57D-46B6-9782-50367D5F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7F2C890-20CC-4E4B-A615-3BAE21BC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059010A-DE5A-4F92-99B8-700AD850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EE0670B-1C12-4695-809E-C43E58BA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ED1908C-8DBB-4DEC-8F03-D77294C0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1A643C-3EDD-4D0C-B234-6A214E5F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046AF41-F800-48E6-9A98-8AC63B78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26D7331-4AD2-4E51-8CF5-5028514D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A26EC5C-0E48-46CA-A052-031D86CD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E4B71-C328-4D57-AF51-F6A32CB7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79E59A5-4E53-4C9F-ACFD-E5C74BBA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677F25-73F4-490A-AF9D-CCA0664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D4C4DB-EB86-4334-92C5-011DE522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B874F9-B77E-469E-B64B-74898664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60B10DE-962B-4BD5-A028-9696D28D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B6AAB32-F0BB-42DA-AA3F-AD145E1F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7D9996A-6AD5-4B11-B010-4F18CAB4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1CBCAA6-BEBE-45DD-B5A7-6975BDF0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1DBD795-A02D-4214-963C-BCD37827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1B12E93-6136-43B8-86E5-710F105E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A00E-3795-454D-8C2F-8AAB899B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443F7EF-7800-43B3-BC99-5AE7CFFD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28475EE-94D6-4490-B75F-CFEB2FFF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4B487F1-4C8E-4D4F-B1A6-27D3A70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6CDA0E8-EE20-41B8-9A82-39D03886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36F79E6-FD68-45D3-992A-1A26E1FF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EB4738F-C0A9-41F4-AB4A-4D6C7FF4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CCC43B5-DEB7-46F5-AE5A-DDE5663F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C19A8D6-3AC3-4847-BEF2-F2326DBA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2087A67-DCF3-4BF4-8427-241B4DC0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75B7093-C3F5-4BF5-94BF-119913B1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5F5D-2B73-4EE4-AA5B-CBC449C626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47E8-B5A5-4437-901D-42845C41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AC98FB1-FCD8-4558-90E9-DD5FBBE6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5F0B13-0C23-44DC-B0A5-E2D20671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4988FB3-968F-497B-853B-765B8E12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E6A5665-B6F6-4EFE-8342-F2A45568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47EA4AF-4AE6-49E7-ADFA-7F36290F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E9AE932-DB69-4EB7-A361-88DD9331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C0DDAA7-3357-49B9-88B4-06D551FC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9474457-F91F-4BB6-A330-CE293081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81ED89B-0D78-4A33-BFB5-E0737176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3D4F887-9C74-4C81-8F0C-D52BC169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88232-34E1-4709-88A8-D17793C7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B8E0308-6E23-4325-9BE9-16489C5C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E728156-48F7-4CCB-AA69-AE50AA82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C0BEF82-5884-48D9-838B-EA866260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FB0B9B2-7A69-487D-A2B6-78379F70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BE14116-AAD0-41AF-8F79-90E38C09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150C36-F330-4C37-BD76-B13368BA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83DD149-E706-4421-8F33-B2285AB3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29C25B6-0660-4FB2-A21E-1B389EA7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D672A90-297D-4B66-84A2-36C9551D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C9A4B50-9509-42EB-AE0B-B9AA7D95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38F2-7B02-4B45-A908-F194AA5B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BF451E3-F527-4BED-807F-AB9D5888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63BADDB-E5DB-4DFD-A575-F5CA897B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8965745-92B8-453D-9AF6-33F97287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0153662-3555-4D08-A569-F9B582E3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ECDFB7D-D2C0-4944-8CFA-30A23862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A060D14-3F7F-4228-98EC-A7C4FBD2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06C285A-B3FA-4403-BDA2-EB6013BC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0FD0550-CCB4-40E2-89F1-664D1C7E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D4532A4-55F6-4BE8-AA9C-772D1182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9FA974B-07CB-4006-9A85-F04E8AFD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B1F7-EE74-4524-ADD8-072E7219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4C16DE3-9558-438D-93F4-6046F845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673A2AF-C161-4476-987C-935A7BAF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838A4C3-946C-4BCA-BCDB-F45F7A08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A0C4461-A7BA-439C-877A-B77068F6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3262E69-399E-499E-B3DD-5CBEC75D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1F666B9-E719-424E-B679-424FEF98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14297F7-B026-42C0-8818-37A271AB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0CFF8A8-2B49-47AF-8E13-85394033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F10A561-9650-4AC5-9823-BD15E597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8F11C8B-AB9B-43E2-9B64-7EA1837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F13B-8A29-40E7-9AB1-685A6124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C4613CA-F94D-49F4-B498-DBBABA48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D1B5E0E-6793-4317-9C01-CD5A9522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EF13F59-B4A0-4079-B880-567FE9D9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BFBDBD7-DA80-4FF1-9B78-BFC3CC77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BBA9ED1-AC5C-4D11-85E9-514EE907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26F6F5E-54DE-41AE-B220-6CA93C44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4E9FAF8-DF92-4174-A4CC-82C6C62F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3355CB1-FBF3-4249-8F44-ED65D080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6A35429-04E1-4F7C-A51F-95228CFC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F8F1BC2-CC23-4D93-B443-8DB42A98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7571-5B7D-4614-9CCD-2BB7E59A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4366A3D-4C7D-4EE4-AE0E-9713C9A9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7C5C3B3-DA59-4FE8-BD8C-3C2C8569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CCB3654-6516-440A-81DD-A62002C8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3ABF2FC-C45D-4396-B393-8086463D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2F9401C-2218-4EDA-880F-D890F957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6AA54F6-9B7B-402E-94EB-0A8D1DC4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CB6107D-6C65-4D56-A8A4-956928BF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BE2BD75-97D4-48F4-B73D-DC6477B882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7009001-C41D-4E62-80BD-A121B20D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98B8237-10F3-4186-85E5-1B3C1859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C88A-5897-4C39-BCFB-4D57E5A9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93F29A0-D337-4DB6-9431-088D2E57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5192AB5-009A-40D5-B684-8E0A741B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B937838-9742-4CF2-8C81-640B64BA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9BA27BE-CFA1-464E-AEBC-474079DD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6EE08A8-FA77-4B87-8C71-65D1EAB5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B20EC02-8F3E-4978-BCE0-F333B89E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3DDCC8E-EF49-4561-B1F8-29B8C054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47F3A7C-2394-48B1-8465-92B5886F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D81BF4F-8C80-4BA3-A03E-6638594B06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81DEBF-38FD-4E2B-902C-C53F1228F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05CC-6669-4720-826E-D85D895B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C13992-C626-4E37-B7BA-BAAC4CCF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3EA4F8-2747-476E-BE3E-165E3344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1CB4B5-97FF-4379-B0C0-DB176AE7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6564A9-3C1A-4E20-8E4D-5EF60144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43ADE1-2767-4A6B-B073-06F3D8D6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54B9DD-C5D3-4AC4-B7A4-46E03014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41D3EB-C3B5-4785-BAC7-1B29EA96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492E69-0ADD-44E6-9315-07C4C0B1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5080D0-185B-486A-B410-22F32685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74DD87-E73E-4DF4-9522-E0871782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D744A-8897-4340-9896-80797EDB75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44A4CA-2E58-4D54-A492-1C7E166BB6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3375A7D-6F62-4DA4-A969-A2DEEF96E2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AB95194-DCE7-41D1-A937-5D2057E8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00C9DE6-A92A-4E7A-9C4E-243BED24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B9E0F02-9EB9-47B6-9D25-456B85B2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B7045AC-C8E4-4A13-AFAF-8DDA8991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BB0C20E-B4CA-420B-A192-166AD9FE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59C6D90-C8E1-406F-93E4-A6E7BD1C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8D8CBFE-2F30-44B5-BD4E-75FDC7CB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88E28D2-799B-484F-A81D-CBACCDAC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E53B0-6F42-41D2-9FFA-E84725E1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A154A48-F057-49B6-A14A-D6964CA1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5B879E1-1189-4D98-AE3F-444CC81A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2C01983-7C0D-4E54-BBAD-8C4ED1ADE2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C2D0D55-C653-4344-BAC4-E68D6F44AA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C15AD9E-EAA0-4329-9711-AA4A1F41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23F01F9-78B8-4BD4-B398-3CDC1A7A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8B11688-F3DA-438D-9DC7-CA370C70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D357342-1507-4CA7-880F-98F83672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12A5A5C-6545-409C-ACC1-5E57B66C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24381C2-101B-499F-896B-3FD3E1DE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724D-3D1E-463D-83C9-F2DD616B0E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123B9-3286-4A78-AD32-720B85A7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395EE19-62F7-43E3-B14A-94DA6542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890FDD3-B164-4E1E-8BBD-6609B5D0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7C59099-944E-421E-9394-9FD0DBBF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0AD2993-B149-4618-8CCF-0F2FFFF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2656E24-B5BD-42FB-AD7A-457C18ED1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C6D799-60F8-44A1-B48C-CE9CAD0BAA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8778A7-0E9D-46E1-B033-4CBAC561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27E2A5-3CB7-468C-A1B0-A0F64701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8B47BB-0074-4E45-8A92-172C2A34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056E29-705B-4C79-A05B-BB40C6E5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6F25E-4CE9-4081-B6AB-FCF1057A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52B06C-AC54-4978-B2D9-6B8A0359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1FFF88-A841-43DD-AEBB-3168D90A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8C7281-8572-481E-B10F-6553D9CA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FA2925-D2D5-4099-8FB8-919647CA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9E7B4D-9151-4F9D-A133-156108B5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091AED-2C45-4B23-A108-30345EC0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DC3FFB-8A39-49D9-8557-275DA1AAFF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365CE72-E5E6-41D3-AF68-FA5C43AF4B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DF3AB9C-4989-4B0F-9111-6445CACF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73A9432-AE88-4A47-A78F-713E482D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E46C-715D-4615-84E0-FC4AB5BC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BFF2048-A068-460E-A397-8BD85323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5AABE9A-33EF-4196-92D3-460D6403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20F874B-DDA3-4246-B78F-22A79EF9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268D41F-3912-4A9D-B2B8-1AE27B31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67B6E2A-EBA9-4093-84B6-AE4095FE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4FFFA80-0F58-4A6D-A432-62049C2A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06876A5-AEB7-45B9-BBBC-2F8FABB2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7965CDD-043C-4E15-84F0-B3882B08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663E3FF-6FBE-4419-BC44-705A80F21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99750A6-142F-45E0-B178-AA4139154A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E88C9-B1E7-45C9-86D7-395192FE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CD42C98-53F0-4122-B162-063A0FD5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0BF79B2-2DD0-44A5-BB34-C5C7030E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58F358C-DC2A-4371-BB70-943F7562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07BE1BE-1081-4F65-8889-209A4A9B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B4AEACB-B66F-41E8-BF0B-F6B5B211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24A6AC8-AD74-4E2A-A8A7-9AA0B36A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8B7B754-DB2A-45DE-97E7-54BCFD0A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DDB4159-D7B9-476F-A2AA-B81C0390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4E5581A-6BE3-4816-ADFE-DACDAEF2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43D70DF-5480-4F16-A8D7-70B4AC55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52143-0612-4A38-8E61-5627D4DE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46AA99A-1FDE-467C-A9E3-7F99334E7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CFD7CF-1A16-4A6C-9335-C00941463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5EC257-25D9-4C2F-9BAD-5F0B0AA4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6155BB-CDA5-4078-B48F-E483BD0F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F5B0C4-E79A-4F67-9827-0E35C662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8C8E05-B0F2-4A5F-8A0D-9260F79B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A0627C-2938-48EF-8858-EF906818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A968E9-2606-4D51-A596-788CD1EE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81A165-5576-4B7E-9DE8-6CA6E576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FFE4ED-D78E-4DBF-B1A8-87614D08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97F8A-2C08-4F25-8EEB-A3473054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9DDC5F-4873-461D-888C-7793128C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917960-A332-4912-83D1-64E75802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E7AB3F-A9AB-4920-91BC-61CE4273A7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6509057-8E64-4969-9096-B48EBE09E7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F12E018-A584-41FE-82EE-5C45315D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8D93793-BC7A-49EF-A427-55421917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B02E5FA-DE3F-4C5F-B6A8-93CFE3AA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0D6C4AE-D498-4B6A-84EF-E2BDF4A6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DC23696-691E-4E6C-9403-E3C38EAA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E4B4E9D-06A1-484B-ABF7-51054058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94AC7-8E43-48EB-9470-FEF2B667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E0C93B3-B9CF-4B19-81BE-94510F8D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742D503-D65A-40E1-9DF1-71F317B5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ADD78C9-9476-48D3-81D6-C2101566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5AD5DB3-2D6B-4BFA-B789-9E3600F5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E6CFA15-27A9-4CCA-BD07-AB5CF561CC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49D0428-308B-4B53-8B2B-31D26DC466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0A991DC-962E-4EF9-A2CB-BE7A2407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D47FC90-35B8-4CF3-9FD3-4B96D4B9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B73C8A3-0F2A-4935-A2F5-DF0F86D2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3F76A45-A8FC-4FD7-B210-B57F8448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003BA-DAA5-40E2-A942-358D70B3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C8ABE9E-78A2-4762-8094-E0279F91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D054A87-1B60-43BD-BA9B-B0980791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D3D3DBC-66B0-4ED7-BA95-0870AB0A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FFDCDFE-E817-4480-BBE0-E3791C04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810825D-A91E-4A99-A084-602FD68C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B1B40D7-C8BF-41BF-B536-CB88996D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AF45D4B-D005-4165-9D48-6FF14299EB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2E3749-C68D-4D64-80FB-843BC15D1D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3F8B57-4FB0-441F-BFDA-29F08205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628DF13-8F4C-4765-8E8B-DBB1A47C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B945-FD78-4B72-AA15-6DDB675E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370AFFE-3289-4DFD-BCF2-8F8E125E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0E5A97-886E-454E-8130-A8F7D97B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6731B3-0BC1-47F4-BEBC-6820D952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93F6BD-4241-4D5C-BB65-6E1F64CD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4D9185-7996-45EB-879E-726AB0B2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269FF2-0D27-4D03-AEE0-7D52964A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97FFEC-A064-4417-83B2-06814EE8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8E363F-C600-4E79-BA39-8A5A9B5C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4C1237-5FA8-485F-A595-55F066029A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FFAEFC-3CE1-4A4F-83E9-4F75E7F5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CD42C-3019-4770-877E-9DE576D4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CB8D76-61D8-44EA-838B-934B6442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F27162-DC3D-4214-9928-E5B7C077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5130DB-2754-4FB8-B255-854563C8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DA00DA-155B-455E-A1EA-5D34827D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DDFA27-E806-4D06-8EF0-032508CE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D9EEEF-39E5-4B4A-B98B-48A16EC6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29EE5B-DDB7-453B-B67B-D96F9E7F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A98AB24-F671-4EE8-8C52-810947DB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51DF9A-4096-42CE-B662-C8A66ED7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54379FB-DA67-4621-A22D-050B68D9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673D-4F0E-429B-B4B7-F2A09C40091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8BC1-489B-401C-A3EE-BC5559A2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389107-79F9-4354-AD91-198D4874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7E95AF-7A99-4720-B220-ED1E9D33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E92FD9-627A-4FD6-BCF8-95CF2CB3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A766BC7-6EF6-48FC-8391-726D137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CEF557-1585-4AA0-B141-6576FCE7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EC8BF6-F5A4-4838-8995-1C4642D9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226FC1-618F-417C-85AB-A79C9A80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8BCFC9-85B5-43EE-9049-41C0169A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67D547-4F5F-4086-8CBB-3422F2DD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DCB49D3-053F-47B6-A2C3-642A7104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80D864-999F-4BFC-810C-5F850909A2C0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63A0828-C5B7-4C22-8C32-9C4CB56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692298-9AE8-4794-AD3D-7B2FAD60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8B97F7-6B42-4350-9EC8-FC3DB258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83EA77-A337-4C11-B421-ED5626B1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BC4562D-E522-4972-A036-995499CF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B3EB86-943A-45A3-BBD0-4EAE9A76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824D7F-EFDE-445C-BD70-B23F8ED0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DB6ACC-8FD3-41BB-9992-4CAEA9E4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1076582-D264-45B1-B2F6-7D0BCE2F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69D64A-F1C4-4467-9112-F13F1D62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49B628-3DC3-44FE-AD13-9E04BA4A303E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C92C97-01EA-4CA8-9EAB-02616AE7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66F9FB1-3460-493F-972F-658B3ACD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95D8A2-8B07-4F42-B380-3BA159F8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D4BAC04-7537-482D-B989-D14FFAE5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8321B1-87F7-4296-8599-BAB2C810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54106C-BD49-4B0B-8B60-A2268F65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22A33C-457A-40EE-B51B-4D62BA38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B214B6-A0FF-4DAE-B0A4-821CAA5E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27C6462-1D86-4F43-B13C-8C7C9E7B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9FA7104-FB4B-43CE-82FD-C0C8D879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0AEDB4-F0CD-4BBD-AC7C-AF9B8BEC0429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31B181-603B-46DB-B0FD-B0539580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B9429BB-2D4C-43C1-8A58-58415C6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0E1D7D1-081D-49F3-B06F-A8FED06E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172E55-45BB-43E8-8387-BEDEB58B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AE96AC3-7C51-43E1-914D-5B3FD634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60FC52F-2667-4B18-98A2-7D9D08E3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344C68-B352-4FAF-BB34-194A1758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FCCF35-7704-4F26-A390-72457BB0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25B201D-19E7-4972-9F8E-D5976CBF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BEDF26-A707-4158-8FDC-FFFB92F2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59AF25-CF5E-4B8C-8E66-7C32004F7212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6B4358-EC0F-4FCE-8DB1-566635CF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7660D0D-5971-4462-8A5B-CF99DE74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019F83-FAA9-4331-A27E-401B4A0E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21AFEFF-F0D6-4C31-854F-7F7FE198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505A8E-D580-4FFB-AD58-8A3FA35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9A0EC9C-71CC-4F65-8838-0FAABBFD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94C8C27-67B3-451C-8E63-8416A99D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F2C375-D80B-4C5B-9AE6-0FE5DA49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8B5C5B5-F8D5-41D7-9E40-17CFAA22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D38EC1B-52B5-4692-936B-122A6E64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FCA9B0-B65F-459D-A693-A88CE0AF3C58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1361882-4F79-4E36-8746-9E9E0A64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7C7325A-3543-467A-8E0E-317EF1AD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3F67971-E406-4A34-BD76-2C0D3590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A8EF2BA-08EF-4629-A063-654399CA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147FD4B-824E-45E3-8975-4E03094B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F0CC23-86F2-4B71-8DE5-A158DBD7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28E721E-6A70-4DBD-9895-5C8C24F2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A82687-75FF-4A66-BEC8-09E6A06D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3DC86C0-3B58-40E3-BAB6-08A30258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C7E210-267F-4D8B-9FED-D6AA4DDD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895643-21B4-41F5-8BB1-B5E58185BABC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7DBA844-DB26-4634-BDD6-EA111D30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65F68FB-CE05-40C5-AC04-5F3A1E00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35292C-747D-4308-A69F-089557FC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AB67EA-8E6B-4C91-BDE2-B857FD24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10483A-8AC0-4B3D-B082-16AD1C91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6730615-747C-45C0-B0AD-F45EF3EE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1F9FAA-42A1-43EE-84CF-EC4B9883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B0323E9-DFBD-4BA4-BAE0-71DBB7C1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647CE2D-ABE9-49D4-AAA2-430F9BE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433248-C0E2-41FF-889B-BEB570D3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3D2E44-03B5-45BE-938A-98DF9F4E4D53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E02FDE-A229-46F0-AB89-D9B1D687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9809C00-239C-43DF-B839-D42D9500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3920B04-780A-40B6-9E32-71674320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F879CC8-3F12-4641-BE0A-B12A7348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04EA28B-05C9-414A-A149-D21883E5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1BC4CB2-A522-4E9C-9689-17726A78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801E2B-EA2C-4AFF-9CD4-FAD201FC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5B88C35-2838-4A0E-8E8E-434D2D60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E84105F-F580-4A81-BCA8-9C87CEFA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D09CC13-1C9A-4771-89A3-97922FCC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0A00A2-4CCA-42DC-9CC9-52FD6463F14F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ACA315B-2191-44B0-BB50-E6D5FEB3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F083132-AAD6-4B1F-9DE6-90AF33DA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3AD42AF-AFED-43A4-B9B9-E6E55CE5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6BB83A-4A32-498A-B6CF-6F9C2EA0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8B3C553-6575-496B-8CF4-48CA1A11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D5A2080-3129-41B2-AEF2-04E50024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8E71368-E658-428D-A95F-87DF4B78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C9D06C5-F530-4A7D-8A3A-DB3C0115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3E6F5FE-F710-4309-A91A-2D2865C8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26582E0-EAC9-4983-9CFD-92D8BD7B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4E8657-375D-4F9B-A5F4-9165F1FD297B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EE5C26-0B6F-4DFF-81FD-500DEA00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D71C353-ECB7-4BF1-9561-1689F1E4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EDE45AB-1DA5-4AB3-9A72-E3490877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23D7503-3EFA-43CD-A974-B4B8F59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7BAD308-136E-4FBD-ADBC-EA68E9FA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C02FBA0-975E-4499-AD45-9E1CD6D1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6100FE-F599-452D-93C0-A4DC9FA9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609EFD-A24E-496D-A0BD-0E608103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A9AC38A-9C40-43C5-B200-DE228D9C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4E5B47-B235-4709-916D-D15BFE49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9344-DA76-487E-A86A-E8169D8BE4E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93136A-FC1F-4BDC-B4B4-AF279C714E4A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514E472-0E0D-427E-8FAB-8DD4DEC5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1FFA70-4C25-4F36-B9F5-07DE70A8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3E6E11-6D2C-4567-874E-6B616BBA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5389477-4AE4-44F0-A0B3-AF1FEC28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7E37D4-A760-4D3B-A11A-5660D030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A351676-931F-4834-8346-239431EA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8EC661C-7B57-41CC-96D9-FF64DA47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C5FB088-3E22-461C-9394-904E46C5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B112B3D-1842-4D45-A5D9-36A00C8A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43DC56C-6F10-402D-A5EE-4BC1245C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ADC9AB-BAD6-4706-8565-88F5D08C9698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D5D95D-4600-41D0-AA28-7EA1144B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4D42FD-F265-422B-AA97-360196DC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2E338B-9126-4146-8849-7F4244CB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4633904-2F9E-4E52-A5F9-04FD5149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60BE5D7-6B54-42F0-887F-AD7C06DF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D9835AE-410A-470A-93F2-FC0295D3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D6AAE41-479B-4234-9D6D-FFAF3809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E66D3A-BEF0-4471-BB8E-6DD8A30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34E582-C138-41B7-A00A-B2123CC2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0E84F5-A6A2-4B60-85F5-A4939829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FFE12D-6C41-4061-9681-1D57D183F0D7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2E066E4-7805-4689-85F6-800FE7AB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4FCD0-D90A-4932-8F95-23A10844445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94C8F-F1A8-4F6B-AABC-DBFCD12D468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79B72-F8CC-47DE-BB54-040CF7CB14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116EB-A5D6-4464-A922-CCFB50488D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CB13A-A174-47E6-A837-F447B30A81F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29BE9-B267-47DD-9F10-DE038E88CA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97D7C-993E-4BD8-9897-13A4D913B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FBD2-D994-4353-A7EB-F6EEDC0E30B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BC12F-D432-48CA-93AE-620388286B5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C376D-9490-45A3-B479-1ED0A51815B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38423-FCF2-4743-8BE4-617AEAAE45E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2FD24-667C-4D7A-93F4-8D580394517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BE9EB-7026-483E-82E2-D2D7B21D663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93364-B0F7-40CB-9959-68B283AD5EE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9412-C6CD-4B41-97DF-6CF966AC6B1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E5E6E-2E61-46A7-95BF-30EDA5592F5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21085-F404-46C2-A881-FBBEE98AD62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7C267-A026-4708-AC5D-F30154FAA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F240-3B0A-4B29-AE36-2C4048FBC64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81194-C7CF-4C48-A805-AC02B94C14F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AFEEC-B4D2-466D-98E3-13AE2712F90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DECB7-0458-46F1-B20D-2CE7C641A0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2111D-1AC4-4611-B723-21AB2127EA8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CF9CA-3347-4C14-B29F-5A1A76B4D3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CF132-4EC4-4D7E-A8A4-6C0E2436D6B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5396B-2F7B-493D-A98D-BE96782FEEF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25789C-2F01-49D7-8741-EDC7F85DFE3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7CBA77-5B9E-4746-B2E4-C17C015A10C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52FAAF-FA6B-49F1-9682-72C944CDF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7DE7-3EDF-4727-B1BE-90CAF6FA6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6" descr="dog0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003640" y="2852640"/>
            <a:ext cx="4087800" cy="4016520"/>
          </a:xfrm>
          <a:prstGeom prst="rect">
            <a:avLst/>
          </a:prstGeom>
          <a:ln w="0">
            <a:noFill/>
          </a:ln>
        </p:spPr>
      </p:pic>
      <p:sp>
        <p:nvSpPr>
          <p:cNvPr id="3" name="Line 8"/>
          <p:cNvSpPr/>
          <p:nvPr/>
        </p:nvSpPr>
        <p:spPr>
          <a:xfrm>
            <a:off x="395280" y="836640"/>
            <a:ext cx="8229600" cy="0"/>
          </a:xfrm>
          <a:prstGeom prst="line">
            <a:avLst/>
          </a:prstGeom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7242840" y="65390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责任  品质  诚信  创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内容占位符 6" descr=""/>
          <p:cNvPicPr/>
          <p:nvPr/>
        </p:nvPicPr>
        <p:blipFill>
          <a:blip r:embed="rId3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ww.TimeBook.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7603200" y="6524640"/>
            <a:ext cx="114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责任  品质  诚信  创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2"/>
          <p:cNvGrpSpPr/>
          <p:nvPr/>
        </p:nvGrpSpPr>
        <p:grpSpPr>
          <a:xfrm>
            <a:off x="324000" y="836640"/>
            <a:ext cx="6911640" cy="1296720"/>
            <a:chOff x="324000" y="836640"/>
            <a:chExt cx="6911640" cy="1296720"/>
          </a:xfrm>
        </p:grpSpPr>
        <p:sp>
          <p:nvSpPr>
            <p:cNvPr id="9" name="Oval 3"/>
            <p:cNvSpPr/>
            <p:nvPr/>
          </p:nvSpPr>
          <p:spPr>
            <a:xfrm>
              <a:off x="324000" y="1011240"/>
              <a:ext cx="1185480" cy="1122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4"/>
            <p:cNvSpPr/>
            <p:nvPr/>
          </p:nvSpPr>
          <p:spPr>
            <a:xfrm>
              <a:off x="1311120" y="1004760"/>
              <a:ext cx="60588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5"/>
            <p:cNvSpPr/>
            <p:nvPr/>
          </p:nvSpPr>
          <p:spPr>
            <a:xfrm>
              <a:off x="1851120" y="941400"/>
              <a:ext cx="60624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6"/>
            <p:cNvSpPr/>
            <p:nvPr/>
          </p:nvSpPr>
          <p:spPr>
            <a:xfrm>
              <a:off x="2320920" y="941400"/>
              <a:ext cx="788760" cy="6858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7"/>
            <p:cNvSpPr/>
            <p:nvPr/>
          </p:nvSpPr>
          <p:spPr>
            <a:xfrm>
              <a:off x="3051360" y="941400"/>
              <a:ext cx="6537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8"/>
            <p:cNvSpPr/>
            <p:nvPr/>
          </p:nvSpPr>
          <p:spPr>
            <a:xfrm>
              <a:off x="3482640" y="836640"/>
              <a:ext cx="6537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9"/>
            <p:cNvSpPr/>
            <p:nvPr/>
          </p:nvSpPr>
          <p:spPr>
            <a:xfrm>
              <a:off x="4002120" y="94140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4327920" y="83664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4832640" y="1039680"/>
              <a:ext cx="6519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5307480" y="941400"/>
              <a:ext cx="83016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6018480" y="836640"/>
              <a:ext cx="831600" cy="5745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6820200" y="941400"/>
              <a:ext cx="415440" cy="455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FA87-C04A-4AD4-9112-DAC4553E0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2DE8-C734-43A9-AC0E-32501B07A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A8E9-34DB-46A2-A1C5-643C033B9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65D1-4667-4CA2-9018-E7BE42150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303E-7FB1-47A8-85EF-AC3BF3D4F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AABF-8BB2-42D3-B00F-7E13F842A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A902-D6AA-4571-995E-21D7557BF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组合 2560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668" name="椭圆 2560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2560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椭圆 2560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椭圆 2560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椭圆 2560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椭圆 2560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4" name="内容占位符 6" descr=""/>
          <p:cNvPicPr/>
          <p:nvPr/>
        </p:nvPicPr>
        <p:blipFill>
          <a:blip r:embed="rId2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FAA6-1F9C-4752-B9B8-91CB933D620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B079-63DF-4C66-A1C2-9586A56E539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6FB1-3B11-4D21-8965-FB1940D3D9B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457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2457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59" name="椭圆 2457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2458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2458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2458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2458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D8F6-E07B-4CEB-9A62-CA1B295ED81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内容占位符 6" descr=""/>
          <p:cNvPicPr/>
          <p:nvPr/>
        </p:nvPicPr>
        <p:blipFill>
          <a:blip r:embed="rId3"/>
          <a:stretch/>
        </p:blipFill>
        <p:spPr>
          <a:xfrm>
            <a:off x="393840" y="115920"/>
            <a:ext cx="23778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384F-0DD7-4D5A-A03E-5DECF9B0D53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A081-4DE6-47E4-8D74-5182188863F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48CA-2782-48E2-AE85-EAEE57A8E7A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C6E5-A0C2-4540-9928-5539E4E55A0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7584-D747-45AB-9896-17221706D8E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111D-04F0-47BF-840C-7C5635F7628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2DA9-21AA-4BCB-B27C-83A8CA89019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5AB3-1D1D-4010-9B86-0EB3CF8DE1A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组合 2867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127" name="椭圆 2867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椭圆 2867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椭圆 2867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椭圆 2867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椭圆 2867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椭圆 2867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8950-D6CE-4814-BE8A-1B2D72DFCA2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EA44-A07C-4D34-AFB2-CCAF20253C1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764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2765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08" name="椭圆 2765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2765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2765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2765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2765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10FB-F67E-406D-9859-541DF3AF845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11D-B2C3-4F87-A11F-198E6BF94DD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6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F853-9288-44B5-8EC4-9BDBC9765F1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DAA1-672B-4D69-81BB-36C25BE09C8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7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CF8D-BD41-4D0C-8396-4CAFA2D16EB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 type="dt" idx="7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 type="ftr" idx="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 type="sldNum" idx="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6272-2A94-44C5-85D2-AB4122513C8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dt" idx="7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 type="ftr" idx="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 type="sldNum" idx="8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13AE-0529-41D3-94B1-EBF2B296264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dt" idx="8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ftr" idx="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 type="sldNum" idx="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D0E9-F613-42D0-8C22-B63AB0BE797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8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7B68-3944-4374-9BDA-EE33B104D81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8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DC7A-C721-4F8C-84DE-8E10540BF94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9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sldNum" idx="9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1C77-C943-40A4-843D-C13DE9A1AFB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5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4837-0625-4843-BA25-840E433229A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dt" idx="9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191F-290C-49C0-AE4C-D265E49207F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57BA-148C-4785-B625-153E06A918C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 type="dt" idx="9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 type="sldNum" idx="9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7329-F957-41D1-A724-E4FF586C2EC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 type="dt" idx="9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 type="sldNum" idx="9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2B33-6445-4FD4-88EC-CECDDD89013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 type="sldNum" idx="1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898B-476E-4A87-9FA8-8072EE524DB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10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sldNum" idx="10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A16D-5646-4C4A-9221-2C0B1E894AA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 type="dt" idx="10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4D41-D7D1-4FB1-8A8F-437528CB09D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D8C8-B04F-4DBB-B1FA-ED337850E46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 type="dt" idx="10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 type="sldNum" idx="10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6B3D-3A85-4F2D-B326-39F3B6B8F87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1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C0B3-288D-4299-B09F-F253DA53026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202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03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1AFB-9C74-4B89-AA04-E90D11113AA9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 type="ftr" idx="11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3E55-211C-4C85-9823-FE31C297C29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 type="ftr" idx="11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833A-C25E-4167-AA57-9A93CAC3ADE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1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ftr" idx="1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D4D6-5B11-47F9-A502-F589EA3D1B03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 type="ftr" idx="12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7176-5202-4F00-A0E6-2B5E7759D84D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DD14-60C1-4973-B17D-31A9FFD4A0BC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 type="dt" idx="1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 type="ftr" idx="1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3173-C5F5-4F64-8EF7-10DC7B7386CE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 type="ftr" idx="13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704C-EF55-4ABD-9AF4-600304E7FFD6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3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631D-8DA5-4AB8-9791-821E8BF34A66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 type="ftr" idx="13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D748-4357-4948-93BC-FCA6DCBD6ABA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 type="ftr" idx="14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A9E6-C928-4EFB-9332-9C3F5EE2EEF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034B-F30C-4DD2-B7C8-F8928D1C4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4"/>
          <p:cNvSpPr>
            <a:spLocks noGrp="1"/>
          </p:cNvSpPr>
          <p:nvPr>
            <p:ph type="ftr" idx="14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52E3-D801-41FE-BEF2-906FDADAD996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F354-94BA-481B-86F5-9BA423B2A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FCD9-E00C-4494-9677-088E28BA6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579640" y="189000"/>
            <a:ext cx="309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6CF2-9D76-4830-AECE-3EFA954A2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AutoShape 8"/>
          <p:cNvSpPr/>
          <p:nvPr/>
        </p:nvSpPr>
        <p:spPr>
          <a:xfrm>
            <a:off x="8736120" y="208584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AutoShape 9"/>
          <p:cNvSpPr/>
          <p:nvPr/>
        </p:nvSpPr>
        <p:spPr>
          <a:xfrm>
            <a:off x="8291520" y="1803240"/>
            <a:ext cx="430200" cy="432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AutoShape 13"/>
          <p:cNvSpPr/>
          <p:nvPr/>
        </p:nvSpPr>
        <p:spPr>
          <a:xfrm>
            <a:off x="8367840" y="141300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AutoShape 10"/>
          <p:cNvSpPr/>
          <p:nvPr/>
        </p:nvSpPr>
        <p:spPr>
          <a:xfrm>
            <a:off x="507960" y="368928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AutoShape 11"/>
          <p:cNvSpPr/>
          <p:nvPr/>
        </p:nvSpPr>
        <p:spPr>
          <a:xfrm>
            <a:off x="210960" y="3392640"/>
            <a:ext cx="297000" cy="296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AutoShape 12"/>
          <p:cNvSpPr/>
          <p:nvPr/>
        </p:nvSpPr>
        <p:spPr>
          <a:xfrm>
            <a:off x="108000" y="415908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1" name="Group 5"/>
          <p:cNvGrpSpPr/>
          <p:nvPr/>
        </p:nvGrpSpPr>
        <p:grpSpPr>
          <a:xfrm>
            <a:off x="2367720" y="3889440"/>
            <a:ext cx="890640" cy="757080"/>
            <a:chOff x="2367720" y="3889440"/>
            <a:chExt cx="890640" cy="757080"/>
          </a:xfrm>
        </p:grpSpPr>
        <p:sp>
          <p:nvSpPr>
            <p:cNvPr id="2482" name="AutoShape 6"/>
            <p:cNvSpPr/>
            <p:nvPr/>
          </p:nvSpPr>
          <p:spPr>
            <a:xfrm rot="720000">
              <a:off x="2422080" y="3963960"/>
              <a:ext cx="781200" cy="608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AutoShape 7"/>
            <p:cNvSpPr/>
            <p:nvPr/>
          </p:nvSpPr>
          <p:spPr>
            <a:xfrm rot="720000">
              <a:off x="2442600" y="3983040"/>
              <a:ext cx="737280" cy="5576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问题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Group 8"/>
          <p:cNvGrpSpPr/>
          <p:nvPr/>
        </p:nvGrpSpPr>
        <p:grpSpPr>
          <a:xfrm>
            <a:off x="3699000" y="3969360"/>
            <a:ext cx="813240" cy="692640"/>
            <a:chOff x="3699000" y="3969360"/>
            <a:chExt cx="813240" cy="692640"/>
          </a:xfrm>
        </p:grpSpPr>
        <p:sp>
          <p:nvSpPr>
            <p:cNvPr id="2485" name="AutoShape 9"/>
            <p:cNvSpPr/>
            <p:nvPr/>
          </p:nvSpPr>
          <p:spPr>
            <a:xfrm rot="120000">
              <a:off x="3710160" y="3982680"/>
              <a:ext cx="790560" cy="6652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AutoShape 10"/>
            <p:cNvSpPr/>
            <p:nvPr/>
          </p:nvSpPr>
          <p:spPr>
            <a:xfrm rot="120000">
              <a:off x="3729600" y="4004280"/>
              <a:ext cx="746280" cy="60984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探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7" name="Group 11"/>
          <p:cNvGrpSpPr/>
          <p:nvPr/>
        </p:nvGrpSpPr>
        <p:grpSpPr>
          <a:xfrm>
            <a:off x="4965480" y="3875040"/>
            <a:ext cx="868680" cy="667800"/>
            <a:chOff x="4965480" y="3875040"/>
            <a:chExt cx="868680" cy="667800"/>
          </a:xfrm>
        </p:grpSpPr>
        <p:sp>
          <p:nvSpPr>
            <p:cNvPr id="2488" name="AutoShape 12"/>
            <p:cNvSpPr/>
            <p:nvPr/>
          </p:nvSpPr>
          <p:spPr>
            <a:xfrm rot="21060000">
              <a:off x="5003640" y="3933360"/>
              <a:ext cx="792360" cy="5508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AutoShape 13"/>
            <p:cNvSpPr/>
            <p:nvPr/>
          </p:nvSpPr>
          <p:spPr>
            <a:xfrm rot="21060000">
              <a:off x="5022000" y="3951720"/>
              <a:ext cx="747720" cy="5050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0" name="Group 14"/>
          <p:cNvGrpSpPr/>
          <p:nvPr/>
        </p:nvGrpSpPr>
        <p:grpSpPr>
          <a:xfrm>
            <a:off x="6146640" y="3777840"/>
            <a:ext cx="954720" cy="840240"/>
            <a:chOff x="6146640" y="3777840"/>
            <a:chExt cx="954720" cy="840240"/>
          </a:xfrm>
        </p:grpSpPr>
        <p:sp>
          <p:nvSpPr>
            <p:cNvPr id="2491" name="AutoShape 15"/>
            <p:cNvSpPr/>
            <p:nvPr/>
          </p:nvSpPr>
          <p:spPr>
            <a:xfrm rot="20220000">
              <a:off x="6227640" y="3909600"/>
              <a:ext cx="792360" cy="57636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AutoShape 16"/>
            <p:cNvSpPr/>
            <p:nvPr/>
          </p:nvSpPr>
          <p:spPr>
            <a:xfrm rot="20220000">
              <a:off x="6245280" y="3929760"/>
              <a:ext cx="747720" cy="52848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b05"/>
                  </a:solidFill>
                  <a:latin typeface="Arial"/>
                  <a:ea typeface="华文新魏"/>
                </a:rPr>
                <a:t>拓展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TextBox 15"/>
          <p:cNvSpPr/>
          <p:nvPr/>
        </p:nvSpPr>
        <p:spPr>
          <a:xfrm>
            <a:off x="7524720" y="420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矩形 24"/>
          <p:cNvSpPr/>
          <p:nvPr/>
        </p:nvSpPr>
        <p:spPr>
          <a:xfrm>
            <a:off x="2340000" y="1125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教版六年级上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矩形 25"/>
          <p:cNvSpPr/>
          <p:nvPr/>
        </p:nvSpPr>
        <p:spPr>
          <a:xfrm>
            <a:off x="2340000" y="2852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时：位置与方向、数与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6" name="Group 2"/>
          <p:cNvGrpSpPr/>
          <p:nvPr/>
        </p:nvGrpSpPr>
        <p:grpSpPr>
          <a:xfrm>
            <a:off x="6500880" y="333360"/>
            <a:ext cx="2070000" cy="431640"/>
            <a:chOff x="6500880" y="333360"/>
            <a:chExt cx="2070000" cy="431640"/>
          </a:xfrm>
        </p:grpSpPr>
        <p:grpSp>
          <p:nvGrpSpPr>
            <p:cNvPr id="2717" name="Group 3"/>
            <p:cNvGrpSpPr/>
            <p:nvPr/>
          </p:nvGrpSpPr>
          <p:grpSpPr>
            <a:xfrm>
              <a:off x="6500880" y="333360"/>
              <a:ext cx="2070000" cy="431640"/>
              <a:chOff x="6500880" y="333360"/>
              <a:chExt cx="2070000" cy="431640"/>
            </a:xfrm>
          </p:grpSpPr>
          <p:pic>
            <p:nvPicPr>
              <p:cNvPr id="271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33360"/>
                <a:ext cx="20700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9" name="Text Box 6"/>
              <p:cNvSpPr/>
              <p:nvPr/>
            </p:nvSpPr>
            <p:spPr>
              <a:xfrm>
                <a:off x="6537960" y="360720"/>
                <a:ext cx="203292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五边形 4"/>
            <p:cNvSpPr/>
            <p:nvPr/>
          </p:nvSpPr>
          <p:spPr>
            <a:xfrm>
              <a:off x="6537960" y="36072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1" name="Group 6"/>
          <p:cNvGrpSpPr/>
          <p:nvPr/>
        </p:nvGrpSpPr>
        <p:grpSpPr>
          <a:xfrm>
            <a:off x="3205080" y="3262320"/>
            <a:ext cx="287280" cy="287280"/>
            <a:chOff x="3205080" y="3262320"/>
            <a:chExt cx="287280" cy="287280"/>
          </a:xfrm>
        </p:grpSpPr>
        <p:sp>
          <p:nvSpPr>
            <p:cNvPr id="2722" name="Oval 7"/>
            <p:cNvSpPr/>
            <p:nvPr/>
          </p:nvSpPr>
          <p:spPr>
            <a:xfrm>
              <a:off x="3205080" y="3262320"/>
              <a:ext cx="287280" cy="2872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Oval 8"/>
            <p:cNvSpPr/>
            <p:nvPr/>
          </p:nvSpPr>
          <p:spPr>
            <a:xfrm>
              <a:off x="3266640" y="3323880"/>
              <a:ext cx="164160" cy="1641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4" name="Group 10"/>
          <p:cNvGrpSpPr/>
          <p:nvPr/>
        </p:nvGrpSpPr>
        <p:grpSpPr>
          <a:xfrm>
            <a:off x="5149800" y="5207040"/>
            <a:ext cx="287280" cy="287280"/>
            <a:chOff x="5149800" y="5207040"/>
            <a:chExt cx="287280" cy="287280"/>
          </a:xfrm>
        </p:grpSpPr>
        <p:sp>
          <p:nvSpPr>
            <p:cNvPr id="2725" name="Oval 11"/>
            <p:cNvSpPr/>
            <p:nvPr/>
          </p:nvSpPr>
          <p:spPr>
            <a:xfrm>
              <a:off x="5149800" y="5207040"/>
              <a:ext cx="287280" cy="2872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Oval 12"/>
            <p:cNvSpPr/>
            <p:nvPr/>
          </p:nvSpPr>
          <p:spPr>
            <a:xfrm>
              <a:off x="5211360" y="5268600"/>
              <a:ext cx="164160" cy="1641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7" name="Line 14"/>
          <p:cNvSpPr/>
          <p:nvPr/>
        </p:nvSpPr>
        <p:spPr>
          <a:xfrm>
            <a:off x="3349800" y="3406680"/>
            <a:ext cx="1944360" cy="1944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Rectangle 15"/>
          <p:cNvSpPr/>
          <p:nvPr/>
        </p:nvSpPr>
        <p:spPr>
          <a:xfrm>
            <a:off x="3349800" y="3406680"/>
            <a:ext cx="1944360" cy="1944720"/>
          </a:xfrm>
          <a:prstGeom prst="rect">
            <a:avLst/>
          </a:prstGeom>
          <a:noFill/>
          <a:ln w="255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Freeform 16"/>
          <p:cNvSpPr/>
          <p:nvPr/>
        </p:nvSpPr>
        <p:spPr>
          <a:xfrm>
            <a:off x="3664080" y="3409920"/>
            <a:ext cx="161640" cy="276120"/>
          </a:xfrm>
          <a:custGeom>
            <a:avLst/>
            <a:gdLst/>
            <a:ahLst/>
            <a:rect l="l" t="t" r="r" b="b"/>
            <a:pathLst>
              <a:path w="102" h="174">
                <a:moveTo>
                  <a:pt x="64" y="0"/>
                </a:moveTo>
                <a:cubicBezTo>
                  <a:pt x="70" y="20"/>
                  <a:pt x="102" y="99"/>
                  <a:pt x="91" y="128"/>
                </a:cubicBezTo>
                <a:cubicBezTo>
                  <a:pt x="80" y="157"/>
                  <a:pt x="19" y="165"/>
                  <a:pt x="0" y="174"/>
                </a:cubicBezTo>
              </a:path>
            </a:pathLst>
          </a:cu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17"/>
          <p:cNvSpPr/>
          <p:nvPr/>
        </p:nvSpPr>
        <p:spPr>
          <a:xfrm>
            <a:off x="3924360" y="34066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Freeform 18"/>
          <p:cNvSpPr/>
          <p:nvPr/>
        </p:nvSpPr>
        <p:spPr>
          <a:xfrm>
            <a:off x="4849920" y="5062680"/>
            <a:ext cx="114120" cy="276120"/>
          </a:xfrm>
          <a:custGeom>
            <a:avLst/>
            <a:gdLst/>
            <a:ahLst/>
            <a:rect l="l" t="t" r="r" b="b"/>
            <a:pathLst>
              <a:path w="72" h="174">
                <a:moveTo>
                  <a:pt x="72" y="0"/>
                </a:moveTo>
                <a:cubicBezTo>
                  <a:pt x="62" y="12"/>
                  <a:pt x="22" y="45"/>
                  <a:pt x="11" y="74"/>
                </a:cubicBezTo>
                <a:cubicBezTo>
                  <a:pt x="0" y="103"/>
                  <a:pt x="9" y="153"/>
                  <a:pt x="8" y="174"/>
                </a:cubicBezTo>
              </a:path>
            </a:pathLst>
          </a:cu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Text Box 19"/>
          <p:cNvSpPr/>
          <p:nvPr/>
        </p:nvSpPr>
        <p:spPr>
          <a:xfrm>
            <a:off x="4213080" y="4919760"/>
            <a:ext cx="12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3" name="Picture 29" descr="20060211212332866"/>
          <p:cNvPicPr/>
          <p:nvPr/>
        </p:nvPicPr>
        <p:blipFill>
          <a:blip r:embed="rId2"/>
          <a:stretch/>
        </p:blipFill>
        <p:spPr>
          <a:xfrm>
            <a:off x="4573440" y="4486320"/>
            <a:ext cx="2737080" cy="1895400"/>
          </a:xfrm>
          <a:prstGeom prst="rect">
            <a:avLst/>
          </a:prstGeom>
          <a:ln w="0">
            <a:noFill/>
          </a:ln>
        </p:spPr>
      </p:pic>
      <p:pic>
        <p:nvPicPr>
          <p:cNvPr id="2734" name="Picture 32" descr="20060211213154668"/>
          <p:cNvPicPr/>
          <p:nvPr/>
        </p:nvPicPr>
        <p:blipFill>
          <a:blip r:embed="rId3"/>
          <a:stretch/>
        </p:blipFill>
        <p:spPr>
          <a:xfrm>
            <a:off x="2268360" y="1822320"/>
            <a:ext cx="854280" cy="2225880"/>
          </a:xfrm>
          <a:prstGeom prst="rect">
            <a:avLst/>
          </a:prstGeom>
          <a:ln w="0">
            <a:noFill/>
          </a:ln>
        </p:spPr>
      </p:pic>
      <p:sp>
        <p:nvSpPr>
          <p:cNvPr id="2735" name="AutoShape 34"/>
          <p:cNvSpPr/>
          <p:nvPr/>
        </p:nvSpPr>
        <p:spPr>
          <a:xfrm>
            <a:off x="3995640" y="1822320"/>
            <a:ext cx="2376720" cy="1224000"/>
          </a:xfrm>
          <a:prstGeom prst="wedgeRectCallout">
            <a:avLst>
              <a:gd name="adj1" fmla="val -87074"/>
              <a:gd name="adj2" fmla="val 11865"/>
            </a:avLst>
          </a:prstGeom>
          <a:solidFill>
            <a:srgbClr val="cc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在我的东偏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上，距离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AutoShape 35"/>
          <p:cNvSpPr/>
          <p:nvPr/>
        </p:nvSpPr>
        <p:spPr>
          <a:xfrm>
            <a:off x="6372360" y="3119400"/>
            <a:ext cx="2520720" cy="1224000"/>
          </a:xfrm>
          <a:prstGeom prst="wedgeRectCallout">
            <a:avLst>
              <a:gd name="adj1" fmla="val -81361"/>
              <a:gd name="adj2" fmla="val 51037"/>
            </a:avLst>
          </a:prstGeom>
          <a:solidFill>
            <a:srgbClr val="cc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在我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   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 __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上，距离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7" name="Group 30"/>
          <p:cNvGrpSpPr/>
          <p:nvPr/>
        </p:nvGrpSpPr>
        <p:grpSpPr>
          <a:xfrm>
            <a:off x="829080" y="4221000"/>
            <a:ext cx="1978560" cy="1887480"/>
            <a:chOff x="829080" y="4221000"/>
            <a:chExt cx="1978560" cy="1887480"/>
          </a:xfrm>
        </p:grpSpPr>
        <p:grpSp>
          <p:nvGrpSpPr>
            <p:cNvPr id="2738" name="Group 20"/>
            <p:cNvGrpSpPr/>
            <p:nvPr/>
          </p:nvGrpSpPr>
          <p:grpSpPr>
            <a:xfrm>
              <a:off x="1158840" y="4573440"/>
              <a:ext cx="1357200" cy="1206360"/>
              <a:chOff x="1158840" y="4573440"/>
              <a:chExt cx="1357200" cy="1206360"/>
            </a:xfrm>
          </p:grpSpPr>
          <p:sp>
            <p:nvSpPr>
              <p:cNvPr id="2739" name="Line 21"/>
              <p:cNvSpPr/>
              <p:nvPr/>
            </p:nvSpPr>
            <p:spPr>
              <a:xfrm>
                <a:off x="1158840" y="5177520"/>
                <a:ext cx="13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Line 22"/>
              <p:cNvSpPr/>
              <p:nvPr/>
            </p:nvSpPr>
            <p:spPr>
              <a:xfrm>
                <a:off x="1811520" y="4573440"/>
                <a:ext cx="0" cy="12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1" name="Text Box 23"/>
            <p:cNvSpPr/>
            <p:nvPr/>
          </p:nvSpPr>
          <p:spPr>
            <a:xfrm>
              <a:off x="1872000" y="5587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Text Box 24"/>
            <p:cNvSpPr/>
            <p:nvPr/>
          </p:nvSpPr>
          <p:spPr>
            <a:xfrm>
              <a:off x="2413440" y="5068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东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Text Box 25"/>
            <p:cNvSpPr/>
            <p:nvPr/>
          </p:nvSpPr>
          <p:spPr>
            <a:xfrm>
              <a:off x="829080" y="5141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Text Box 26"/>
            <p:cNvSpPr/>
            <p:nvPr/>
          </p:nvSpPr>
          <p:spPr>
            <a:xfrm>
              <a:off x="1872000" y="4221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5" name="Text Box 36"/>
          <p:cNvSpPr/>
          <p:nvPr/>
        </p:nvSpPr>
        <p:spPr>
          <a:xfrm>
            <a:off x="1621800" y="211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小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Text Box 37"/>
          <p:cNvSpPr/>
          <p:nvPr/>
        </p:nvSpPr>
        <p:spPr>
          <a:xfrm>
            <a:off x="6662160" y="5423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小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38"/>
          <p:cNvSpPr/>
          <p:nvPr/>
        </p:nvSpPr>
        <p:spPr>
          <a:xfrm>
            <a:off x="4166640" y="391176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文本框 13358"/>
          <p:cNvSpPr/>
          <p:nvPr/>
        </p:nvSpPr>
        <p:spPr>
          <a:xfrm>
            <a:off x="7908120" y="3065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文本框 13359"/>
          <p:cNvSpPr/>
          <p:nvPr/>
        </p:nvSpPr>
        <p:spPr>
          <a:xfrm>
            <a:off x="6480000" y="345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文本框 13360"/>
          <p:cNvSpPr/>
          <p:nvPr/>
        </p:nvSpPr>
        <p:spPr>
          <a:xfrm>
            <a:off x="6802200" y="3502080"/>
            <a:ext cx="5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45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文本框 13361"/>
          <p:cNvSpPr/>
          <p:nvPr/>
        </p:nvSpPr>
        <p:spPr>
          <a:xfrm>
            <a:off x="7596720" y="3838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0092 L 0.16737 -0.36817 E">
                                      <p:cBhvr>
                                        <p:cTn id="283" dur="2000" fill="hold"/>
                                        <p:tgtEl>
                                          <p:spTgt spid="2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2.67345E-006 L 0.38195 -0.08487 E">
                                      <p:cBhvr>
                                        <p:cTn id="292" dur="2000" fill="hold"/>
                                        <p:tgtEl>
                                          <p:spTgt spid="2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75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75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7" name="Picture 2" descr=""/>
          <p:cNvPicPr/>
          <p:nvPr/>
        </p:nvPicPr>
        <p:blipFill>
          <a:blip r:embed="rId2"/>
          <a:stretch/>
        </p:blipFill>
        <p:spPr>
          <a:xfrm>
            <a:off x="3564000" y="2158920"/>
            <a:ext cx="5113440" cy="3694320"/>
          </a:xfrm>
          <a:prstGeom prst="rect">
            <a:avLst/>
          </a:prstGeom>
          <a:ln w="0">
            <a:noFill/>
          </a:ln>
        </p:spPr>
      </p:pic>
      <p:sp>
        <p:nvSpPr>
          <p:cNvPr id="2758" name="Rectangle 3"/>
          <p:cNvSpPr/>
          <p:nvPr/>
        </p:nvSpPr>
        <p:spPr>
          <a:xfrm>
            <a:off x="4413240" y="1738440"/>
            <a:ext cx="30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黑体"/>
              </a:rPr>
              <a:t>公园定向运动路线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Rectangle 5"/>
          <p:cNvSpPr/>
          <p:nvPr/>
        </p:nvSpPr>
        <p:spPr>
          <a:xfrm>
            <a:off x="3502440" y="44625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终点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Rectangle 6"/>
          <p:cNvSpPr/>
          <p:nvPr/>
        </p:nvSpPr>
        <p:spPr>
          <a:xfrm>
            <a:off x="5590080" y="51102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起点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Rectangle 7"/>
          <p:cNvSpPr/>
          <p:nvPr/>
        </p:nvSpPr>
        <p:spPr>
          <a:xfrm>
            <a:off x="3268080" y="5052960"/>
            <a:ext cx="110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100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Rectangle 8"/>
          <p:cNvSpPr/>
          <p:nvPr/>
        </p:nvSpPr>
        <p:spPr>
          <a:xfrm>
            <a:off x="7836120" y="36781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Rectangle 9"/>
          <p:cNvSpPr/>
          <p:nvPr/>
        </p:nvSpPr>
        <p:spPr>
          <a:xfrm>
            <a:off x="5281920" y="234936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AutoShape 10"/>
          <p:cNvSpPr/>
          <p:nvPr/>
        </p:nvSpPr>
        <p:spPr>
          <a:xfrm>
            <a:off x="3059280" y="1700280"/>
            <a:ext cx="5775120" cy="4201920"/>
          </a:xfrm>
          <a:prstGeom prst="roundRect">
            <a:avLst>
              <a:gd name="adj" fmla="val 5102"/>
            </a:avLst>
          </a:prstGeom>
          <a:noFill/>
          <a:ln w="22320">
            <a:solidFill>
              <a:srgbClr val="0381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5" name="Group 11"/>
          <p:cNvGrpSpPr/>
          <p:nvPr/>
        </p:nvGrpSpPr>
        <p:grpSpPr>
          <a:xfrm>
            <a:off x="5796000" y="4684680"/>
            <a:ext cx="1920240" cy="581400"/>
            <a:chOff x="5796000" y="4684680"/>
            <a:chExt cx="1920240" cy="581400"/>
          </a:xfrm>
        </p:grpSpPr>
        <p:sp>
          <p:nvSpPr>
            <p:cNvPr id="2766" name="Rectangle 12"/>
            <p:cNvSpPr/>
            <p:nvPr/>
          </p:nvSpPr>
          <p:spPr>
            <a:xfrm>
              <a:off x="5979960" y="4684680"/>
              <a:ext cx="173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宋体"/>
                </a:rPr>
                <a:t>东偏北</a:t>
              </a: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宋体"/>
                </a:rPr>
                <a:t>30°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Arc 13"/>
            <p:cNvSpPr/>
            <p:nvPr/>
          </p:nvSpPr>
          <p:spPr>
            <a:xfrm>
              <a:off x="5796000" y="4935600"/>
              <a:ext cx="97920" cy="150840"/>
            </a:xfrm>
            <a:custGeom>
              <a:avLst/>
              <a:gdLst/>
              <a:ahLst/>
              <a:rect l="l" t="t" r="r" b="b"/>
              <a:pathLst>
                <a:path fill="none" w="21600" h="3342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5802"/>
                    <a:pt x="20374" y="29913"/>
                    <a:pt x="18073" y="33429"/>
                  </a:cubicBezTo>
                </a:path>
                <a:path stroke="0" w="21600" h="3342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5802"/>
                    <a:pt x="20374" y="29913"/>
                    <a:pt x="18073" y="3342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8" name="Group 14"/>
          <p:cNvGrpSpPr/>
          <p:nvPr/>
        </p:nvGrpSpPr>
        <p:grpSpPr>
          <a:xfrm>
            <a:off x="5452560" y="3646080"/>
            <a:ext cx="2421000" cy="1452240"/>
            <a:chOff x="5452560" y="3646080"/>
            <a:chExt cx="2421000" cy="1452240"/>
          </a:xfrm>
        </p:grpSpPr>
        <p:sp>
          <p:nvSpPr>
            <p:cNvPr id="2769" name="Line 15"/>
            <p:cNvSpPr/>
            <p:nvPr/>
          </p:nvSpPr>
          <p:spPr>
            <a:xfrm flipV="1">
              <a:off x="5505120" y="3701880"/>
              <a:ext cx="2368440" cy="1395360"/>
            </a:xfrm>
            <a:prstGeom prst="line">
              <a:avLst/>
            </a:prstGeom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Line 16"/>
            <p:cNvSpPr/>
            <p:nvPr/>
          </p:nvSpPr>
          <p:spPr>
            <a:xfrm flipH="1" flipV="1">
              <a:off x="7819200" y="3646080"/>
              <a:ext cx="48960" cy="85320"/>
            </a:xfrm>
            <a:prstGeom prst="line">
              <a:avLst/>
            </a:prstGeom>
            <a:ln w="316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Line 17"/>
            <p:cNvSpPr/>
            <p:nvPr/>
          </p:nvSpPr>
          <p:spPr>
            <a:xfrm flipH="1" flipV="1">
              <a:off x="7582680" y="3782880"/>
              <a:ext cx="49320" cy="85680"/>
            </a:xfrm>
            <a:prstGeom prst="line">
              <a:avLst/>
            </a:prstGeom>
            <a:ln w="316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Line 18"/>
            <p:cNvSpPr/>
            <p:nvPr/>
          </p:nvSpPr>
          <p:spPr>
            <a:xfrm flipH="1" flipV="1">
              <a:off x="7346160" y="3919320"/>
              <a:ext cx="49320" cy="85680"/>
            </a:xfrm>
            <a:prstGeom prst="line">
              <a:avLst/>
            </a:prstGeom>
            <a:ln w="316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Line 19"/>
            <p:cNvSpPr/>
            <p:nvPr/>
          </p:nvSpPr>
          <p:spPr>
            <a:xfrm flipH="1" flipV="1">
              <a:off x="7109640" y="4055760"/>
              <a:ext cx="48960" cy="85320"/>
            </a:xfrm>
            <a:prstGeom prst="line">
              <a:avLst/>
            </a:prstGeom>
            <a:ln w="316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Line 20"/>
            <p:cNvSpPr/>
            <p:nvPr/>
          </p:nvSpPr>
          <p:spPr>
            <a:xfrm flipH="1" flipV="1">
              <a:off x="6873120" y="4194000"/>
              <a:ext cx="49320" cy="85680"/>
            </a:xfrm>
            <a:prstGeom prst="line">
              <a:avLst/>
            </a:prstGeom>
            <a:ln w="316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5" name="Group 21"/>
            <p:cNvGrpSpPr/>
            <p:nvPr/>
          </p:nvGrpSpPr>
          <p:grpSpPr>
            <a:xfrm>
              <a:off x="6398640" y="4330800"/>
              <a:ext cx="285480" cy="221760"/>
              <a:chOff x="6398640" y="4330800"/>
              <a:chExt cx="285480" cy="221760"/>
            </a:xfrm>
          </p:grpSpPr>
          <p:sp>
            <p:nvSpPr>
              <p:cNvPr id="2776" name="Line 22"/>
              <p:cNvSpPr/>
              <p:nvPr/>
            </p:nvSpPr>
            <p:spPr>
              <a:xfrm flipH="1" flipV="1">
                <a:off x="6634800" y="4330800"/>
                <a:ext cx="49320" cy="8568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Line 23"/>
              <p:cNvSpPr/>
              <p:nvPr/>
            </p:nvSpPr>
            <p:spPr>
              <a:xfrm flipH="1" flipV="1">
                <a:off x="6398640" y="4467240"/>
                <a:ext cx="49320" cy="8532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8" name="Line 24"/>
            <p:cNvSpPr/>
            <p:nvPr/>
          </p:nvSpPr>
          <p:spPr>
            <a:xfrm flipH="1" flipV="1">
              <a:off x="6163560" y="4603320"/>
              <a:ext cx="48960" cy="85320"/>
            </a:xfrm>
            <a:prstGeom prst="line">
              <a:avLst/>
            </a:prstGeom>
            <a:ln w="316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Line 25"/>
            <p:cNvSpPr/>
            <p:nvPr/>
          </p:nvSpPr>
          <p:spPr>
            <a:xfrm flipH="1" flipV="1">
              <a:off x="5927040" y="4740120"/>
              <a:ext cx="49320" cy="85680"/>
            </a:xfrm>
            <a:prstGeom prst="line">
              <a:avLst/>
            </a:prstGeom>
            <a:ln w="316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Line 26"/>
            <p:cNvSpPr/>
            <p:nvPr/>
          </p:nvSpPr>
          <p:spPr>
            <a:xfrm flipH="1" flipV="1">
              <a:off x="5690160" y="4876560"/>
              <a:ext cx="48960" cy="85320"/>
            </a:xfrm>
            <a:prstGeom prst="line">
              <a:avLst/>
            </a:prstGeom>
            <a:ln w="316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Line 27"/>
            <p:cNvSpPr/>
            <p:nvPr/>
          </p:nvSpPr>
          <p:spPr>
            <a:xfrm flipH="1" flipV="1">
              <a:off x="5452560" y="5013000"/>
              <a:ext cx="48960" cy="85320"/>
            </a:xfrm>
            <a:prstGeom prst="line">
              <a:avLst/>
            </a:prstGeom>
            <a:ln w="316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2" name="Group 28"/>
          <p:cNvGrpSpPr/>
          <p:nvPr/>
        </p:nvGrpSpPr>
        <p:grpSpPr>
          <a:xfrm>
            <a:off x="5270400" y="2701800"/>
            <a:ext cx="2621880" cy="1026720"/>
            <a:chOff x="5270400" y="2701800"/>
            <a:chExt cx="2621880" cy="1026720"/>
          </a:xfrm>
        </p:grpSpPr>
        <p:grpSp>
          <p:nvGrpSpPr>
            <p:cNvPr id="2783" name="Group 29"/>
            <p:cNvGrpSpPr/>
            <p:nvPr/>
          </p:nvGrpSpPr>
          <p:grpSpPr>
            <a:xfrm>
              <a:off x="5291640" y="2701800"/>
              <a:ext cx="2600640" cy="1026720"/>
              <a:chOff x="5291640" y="2701800"/>
              <a:chExt cx="2600640" cy="1026720"/>
            </a:xfrm>
          </p:grpSpPr>
          <p:sp>
            <p:nvSpPr>
              <p:cNvPr id="2784" name="Line 30"/>
              <p:cNvSpPr/>
              <p:nvPr/>
            </p:nvSpPr>
            <p:spPr>
              <a:xfrm flipV="1">
                <a:off x="7858440" y="3636000"/>
                <a:ext cx="33840" cy="9252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Line 31"/>
              <p:cNvSpPr/>
              <p:nvPr/>
            </p:nvSpPr>
            <p:spPr>
              <a:xfrm flipV="1">
                <a:off x="7602840" y="3542400"/>
                <a:ext cx="33840" cy="9252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Line 32"/>
              <p:cNvSpPr/>
              <p:nvPr/>
            </p:nvSpPr>
            <p:spPr>
              <a:xfrm flipV="1">
                <a:off x="7345440" y="3449160"/>
                <a:ext cx="33840" cy="9216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Line 33"/>
              <p:cNvSpPr/>
              <p:nvPr/>
            </p:nvSpPr>
            <p:spPr>
              <a:xfrm flipV="1">
                <a:off x="7088400" y="3355560"/>
                <a:ext cx="33840" cy="9216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Line 34"/>
              <p:cNvSpPr/>
              <p:nvPr/>
            </p:nvSpPr>
            <p:spPr>
              <a:xfrm flipV="1">
                <a:off x="6832800" y="3261960"/>
                <a:ext cx="33840" cy="9216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Line 35"/>
              <p:cNvSpPr/>
              <p:nvPr/>
            </p:nvSpPr>
            <p:spPr>
              <a:xfrm flipV="1">
                <a:off x="6575400" y="3169800"/>
                <a:ext cx="33840" cy="9216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Line 36"/>
              <p:cNvSpPr/>
              <p:nvPr/>
            </p:nvSpPr>
            <p:spPr>
              <a:xfrm flipV="1">
                <a:off x="6318360" y="3076200"/>
                <a:ext cx="33840" cy="9216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Line 37"/>
              <p:cNvSpPr/>
              <p:nvPr/>
            </p:nvSpPr>
            <p:spPr>
              <a:xfrm flipV="1">
                <a:off x="6059520" y="2980440"/>
                <a:ext cx="33840" cy="9252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Line 38"/>
              <p:cNvSpPr/>
              <p:nvPr/>
            </p:nvSpPr>
            <p:spPr>
              <a:xfrm flipV="1">
                <a:off x="5803920" y="2887200"/>
                <a:ext cx="33840" cy="9216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Line 39"/>
              <p:cNvSpPr/>
              <p:nvPr/>
            </p:nvSpPr>
            <p:spPr>
              <a:xfrm flipV="1">
                <a:off x="5548320" y="2794680"/>
                <a:ext cx="33840" cy="9252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Line 40"/>
              <p:cNvSpPr/>
              <p:nvPr/>
            </p:nvSpPr>
            <p:spPr>
              <a:xfrm flipV="1">
                <a:off x="5291640" y="2701800"/>
                <a:ext cx="33840" cy="9216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5" name="Line 41"/>
            <p:cNvSpPr/>
            <p:nvPr/>
          </p:nvSpPr>
          <p:spPr>
            <a:xfrm flipH="1" flipV="1">
              <a:off x="5270400" y="2787120"/>
              <a:ext cx="2541600" cy="907560"/>
            </a:xfrm>
            <a:prstGeom prst="line">
              <a:avLst/>
            </a:prstGeom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6" name="Group 42"/>
          <p:cNvGrpSpPr/>
          <p:nvPr/>
        </p:nvGrpSpPr>
        <p:grpSpPr>
          <a:xfrm>
            <a:off x="3693960" y="2727360"/>
            <a:ext cx="1615680" cy="1620720"/>
            <a:chOff x="3693960" y="2727360"/>
            <a:chExt cx="1615680" cy="1620720"/>
          </a:xfrm>
        </p:grpSpPr>
        <p:grpSp>
          <p:nvGrpSpPr>
            <p:cNvPr id="2797" name="Group 43"/>
            <p:cNvGrpSpPr/>
            <p:nvPr/>
          </p:nvGrpSpPr>
          <p:grpSpPr>
            <a:xfrm>
              <a:off x="3693960" y="2727360"/>
              <a:ext cx="1615680" cy="1615680"/>
              <a:chOff x="3693960" y="2727360"/>
              <a:chExt cx="1615680" cy="1615680"/>
            </a:xfrm>
          </p:grpSpPr>
          <p:sp>
            <p:nvSpPr>
              <p:cNvPr id="2798" name="Line 44"/>
              <p:cNvSpPr/>
              <p:nvPr/>
            </p:nvSpPr>
            <p:spPr>
              <a:xfrm flipH="1" flipV="1">
                <a:off x="3693960" y="4273560"/>
                <a:ext cx="69480" cy="6948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45"/>
              <p:cNvSpPr/>
              <p:nvPr/>
            </p:nvSpPr>
            <p:spPr>
              <a:xfrm flipH="1" flipV="1">
                <a:off x="3886200" y="4081320"/>
                <a:ext cx="69480" cy="6948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Line 46"/>
              <p:cNvSpPr/>
              <p:nvPr/>
            </p:nvSpPr>
            <p:spPr>
              <a:xfrm flipH="1" flipV="1">
                <a:off x="4081320" y="3888000"/>
                <a:ext cx="69480" cy="6948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1" name="Group 47"/>
              <p:cNvGrpSpPr/>
              <p:nvPr/>
            </p:nvGrpSpPr>
            <p:grpSpPr>
              <a:xfrm>
                <a:off x="4273920" y="3500640"/>
                <a:ext cx="262440" cy="262440"/>
                <a:chOff x="4273920" y="3500640"/>
                <a:chExt cx="262440" cy="262440"/>
              </a:xfrm>
            </p:grpSpPr>
            <p:sp>
              <p:nvSpPr>
                <p:cNvPr id="2802" name="Line 48"/>
                <p:cNvSpPr/>
                <p:nvPr/>
              </p:nvSpPr>
              <p:spPr>
                <a:xfrm flipH="1" flipV="1">
                  <a:off x="4273920" y="3693600"/>
                  <a:ext cx="69480" cy="69480"/>
                </a:xfrm>
                <a:prstGeom prst="line">
                  <a:avLst/>
                </a:prstGeom>
                <a:ln w="3168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3" name="Line 49"/>
                <p:cNvSpPr/>
                <p:nvPr/>
              </p:nvSpPr>
              <p:spPr>
                <a:xfrm flipH="1" flipV="1">
                  <a:off x="4466880" y="3500640"/>
                  <a:ext cx="69480" cy="69480"/>
                </a:xfrm>
                <a:prstGeom prst="line">
                  <a:avLst/>
                </a:prstGeom>
                <a:ln w="3168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4" name="Line 50"/>
              <p:cNvSpPr/>
              <p:nvPr/>
            </p:nvSpPr>
            <p:spPr>
              <a:xfrm flipH="1" flipV="1">
                <a:off x="4659480" y="3308400"/>
                <a:ext cx="69840" cy="6984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Line 51"/>
              <p:cNvSpPr/>
              <p:nvPr/>
            </p:nvSpPr>
            <p:spPr>
              <a:xfrm flipH="1" flipV="1">
                <a:off x="4853160" y="3114720"/>
                <a:ext cx="69840" cy="6984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Line 52"/>
              <p:cNvSpPr/>
              <p:nvPr/>
            </p:nvSpPr>
            <p:spPr>
              <a:xfrm flipH="1" flipV="1">
                <a:off x="5046480" y="2921040"/>
                <a:ext cx="69480" cy="6948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Line 53"/>
              <p:cNvSpPr/>
              <p:nvPr/>
            </p:nvSpPr>
            <p:spPr>
              <a:xfrm flipH="1" flipV="1">
                <a:off x="5240160" y="2727360"/>
                <a:ext cx="69480" cy="69480"/>
              </a:xfrm>
              <a:prstGeom prst="line">
                <a:avLst/>
              </a:prstGeom>
              <a:ln w="3168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8" name="Line 54"/>
            <p:cNvSpPr/>
            <p:nvPr/>
          </p:nvSpPr>
          <p:spPr>
            <a:xfrm flipH="1">
              <a:off x="3746160" y="2806560"/>
              <a:ext cx="1544760" cy="1541520"/>
            </a:xfrm>
            <a:prstGeom prst="line">
              <a:avLst/>
            </a:prstGeom>
            <a:ln w="3168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Group 55"/>
          <p:cNvGrpSpPr/>
          <p:nvPr/>
        </p:nvGrpSpPr>
        <p:grpSpPr>
          <a:xfrm>
            <a:off x="5908680" y="3429000"/>
            <a:ext cx="1736280" cy="581400"/>
            <a:chOff x="5908680" y="3429000"/>
            <a:chExt cx="1736280" cy="581400"/>
          </a:xfrm>
        </p:grpSpPr>
        <p:sp>
          <p:nvSpPr>
            <p:cNvPr id="2810" name="Rectangle 56"/>
            <p:cNvSpPr/>
            <p:nvPr/>
          </p:nvSpPr>
          <p:spPr>
            <a:xfrm>
              <a:off x="5908680" y="3429000"/>
              <a:ext cx="173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宋体"/>
                </a:rPr>
                <a:t>西偏北</a:t>
              </a: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宋体"/>
                </a:rPr>
                <a:t>20°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Arc 57"/>
            <p:cNvSpPr/>
            <p:nvPr/>
          </p:nvSpPr>
          <p:spPr>
            <a:xfrm flipH="1">
              <a:off x="7458120" y="3598920"/>
              <a:ext cx="69840" cy="108000"/>
            </a:xfrm>
            <a:custGeom>
              <a:avLst/>
              <a:gdLst/>
              <a:ahLst/>
              <a:rect l="l" t="t" r="r" b="b"/>
              <a:pathLst>
                <a:path fill="none" w="21600" h="3342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5802"/>
                    <a:pt x="20374" y="29913"/>
                    <a:pt x="18073" y="33429"/>
                  </a:cubicBezTo>
                </a:path>
                <a:path stroke="0" w="21600" h="33429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5802"/>
                    <a:pt x="20374" y="29913"/>
                    <a:pt x="18073" y="3342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Rectangle 58"/>
          <p:cNvSpPr/>
          <p:nvPr/>
        </p:nvSpPr>
        <p:spPr>
          <a:xfrm>
            <a:off x="6783120" y="426240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宋体"/>
              </a:rPr>
              <a:t>1 000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宋体"/>
              </a:rPr>
              <a:t>米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Rectangle 59"/>
          <p:cNvSpPr/>
          <p:nvPr/>
        </p:nvSpPr>
        <p:spPr>
          <a:xfrm>
            <a:off x="6248160" y="266220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宋体"/>
              </a:rPr>
              <a:t>1 000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宋体"/>
              </a:rPr>
              <a:t>米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4" name="Group 60"/>
          <p:cNvGrpSpPr/>
          <p:nvPr/>
        </p:nvGrpSpPr>
        <p:grpSpPr>
          <a:xfrm>
            <a:off x="3510000" y="2733840"/>
            <a:ext cx="1852560" cy="581400"/>
            <a:chOff x="3510000" y="2733840"/>
            <a:chExt cx="1852560" cy="581400"/>
          </a:xfrm>
        </p:grpSpPr>
        <p:sp>
          <p:nvSpPr>
            <p:cNvPr id="2815" name="Rectangle 61"/>
            <p:cNvSpPr/>
            <p:nvPr/>
          </p:nvSpPr>
          <p:spPr>
            <a:xfrm>
              <a:off x="3510000" y="2733840"/>
              <a:ext cx="185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宋体"/>
                </a:rPr>
                <a:t>西偏南</a:t>
              </a: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宋体"/>
                </a:rPr>
                <a:t>45°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Arc 62"/>
            <p:cNvSpPr/>
            <p:nvPr/>
          </p:nvSpPr>
          <p:spPr>
            <a:xfrm flipH="1" rot="16200000">
              <a:off x="5032440" y="2829240"/>
              <a:ext cx="155520" cy="85680"/>
            </a:xfrm>
            <a:custGeom>
              <a:avLst/>
              <a:gdLst/>
              <a:ahLst/>
              <a:rect l="l" t="t" r="r" b="b"/>
              <a:pathLst>
                <a:path fill="none" w="38525" h="21600">
                  <a:moveTo>
                    <a:pt x="0" y="8389"/>
                  </a:moveTo>
                  <a:cubicBezTo>
                    <a:pt x="4090" y="3097"/>
                    <a:pt x="10401" y="-1"/>
                    <a:pt x="17089" y="0"/>
                  </a:cubicBezTo>
                  <a:cubicBezTo>
                    <a:pt x="27991" y="0"/>
                    <a:pt x="37184" y="8124"/>
                    <a:pt x="38525" y="18943"/>
                  </a:cubicBezTo>
                </a:path>
                <a:path stroke="0" w="38525" h="21600">
                  <a:moveTo>
                    <a:pt x="0" y="8389"/>
                  </a:moveTo>
                  <a:cubicBezTo>
                    <a:pt x="4090" y="3097"/>
                    <a:pt x="10401" y="-1"/>
                    <a:pt x="17089" y="0"/>
                  </a:cubicBezTo>
                  <a:cubicBezTo>
                    <a:pt x="27991" y="0"/>
                    <a:pt x="37184" y="8124"/>
                    <a:pt x="38525" y="18943"/>
                  </a:cubicBezTo>
                  <a:lnTo>
                    <a:pt x="17089" y="21600"/>
                  </a:lnTo>
                  <a:close/>
                </a:path>
              </a:pathLst>
            </a:cu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7" name="Rectangle 63"/>
          <p:cNvSpPr/>
          <p:nvPr/>
        </p:nvSpPr>
        <p:spPr>
          <a:xfrm>
            <a:off x="4555800" y="3382920"/>
            <a:ext cx="110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宋体"/>
              </a:rPr>
              <a:t>800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宋体"/>
              </a:rPr>
              <a:t>米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Rectangle 4"/>
          <p:cNvSpPr/>
          <p:nvPr/>
        </p:nvSpPr>
        <p:spPr>
          <a:xfrm>
            <a:off x="324000" y="1844640"/>
            <a:ext cx="2519280" cy="88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上面的路线图，说一说每一赛段所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方向和路程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Rectangle 4"/>
          <p:cNvSpPr/>
          <p:nvPr/>
        </p:nvSpPr>
        <p:spPr>
          <a:xfrm>
            <a:off x="250920" y="3454560"/>
            <a:ext cx="2520720" cy="207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从起点沿东偏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方向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米，到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号站，沿西偏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方向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米，到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号站，沿西偏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方向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米，到达终点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20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2000"/>
                                        <p:tgtEl>
                                          <p:spTgt spid="2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10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2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0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21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3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834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835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6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7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8" name="Rectangle 6"/>
          <p:cNvSpPr/>
          <p:nvPr/>
        </p:nvSpPr>
        <p:spPr>
          <a:xfrm>
            <a:off x="539640" y="4869000"/>
            <a:ext cx="7704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据上面的路线图，说一说小玲去书店和回来时所走的方向和路程，完成下表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9" name="组合 15380"/>
          <p:cNvGrpSpPr/>
          <p:nvPr/>
        </p:nvGrpSpPr>
        <p:grpSpPr>
          <a:xfrm>
            <a:off x="1116000" y="1268280"/>
            <a:ext cx="7589880" cy="3314520"/>
            <a:chOff x="1116000" y="1268280"/>
            <a:chExt cx="7589880" cy="3314520"/>
          </a:xfrm>
        </p:grpSpPr>
        <p:pic>
          <p:nvPicPr>
            <p:cNvPr id="2840" name="Picture 3" descr="023"/>
            <p:cNvPicPr/>
            <p:nvPr/>
          </p:nvPicPr>
          <p:blipFill>
            <a:blip r:embed="rId2"/>
            <a:stretch/>
          </p:blipFill>
          <p:spPr>
            <a:xfrm>
              <a:off x="1403640" y="1742400"/>
              <a:ext cx="5616360" cy="28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1" name="Rectangle 5"/>
            <p:cNvSpPr/>
            <p:nvPr/>
          </p:nvSpPr>
          <p:spPr>
            <a:xfrm>
              <a:off x="4428000" y="1483920"/>
              <a:ext cx="13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商场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7"/>
            <p:cNvSpPr/>
            <p:nvPr/>
          </p:nvSpPr>
          <p:spPr>
            <a:xfrm>
              <a:off x="6876720" y="3140280"/>
              <a:ext cx="18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玲家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8"/>
            <p:cNvSpPr/>
            <p:nvPr/>
          </p:nvSpPr>
          <p:spPr>
            <a:xfrm>
              <a:off x="1116000" y="1844280"/>
              <a:ext cx="122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书店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9"/>
            <p:cNvSpPr/>
            <p:nvPr/>
          </p:nvSpPr>
          <p:spPr>
            <a:xfrm>
              <a:off x="1187640" y="3933000"/>
              <a:ext cx="172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米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Line 10"/>
            <p:cNvSpPr/>
            <p:nvPr/>
          </p:nvSpPr>
          <p:spPr>
            <a:xfrm flipV="1">
              <a:off x="8028360" y="1815120"/>
              <a:ext cx="0" cy="79236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1"/>
            <p:cNvSpPr/>
            <p:nvPr/>
          </p:nvSpPr>
          <p:spPr>
            <a:xfrm>
              <a:off x="7740000" y="126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7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848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0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861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862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3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4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5" name="Rectangle 2"/>
          <p:cNvSpPr/>
          <p:nvPr/>
        </p:nvSpPr>
        <p:spPr>
          <a:xfrm>
            <a:off x="6483240" y="5925960"/>
            <a:ext cx="171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48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Rectangle 3"/>
          <p:cNvSpPr/>
          <p:nvPr/>
        </p:nvSpPr>
        <p:spPr>
          <a:xfrm>
            <a:off x="4933800" y="5925960"/>
            <a:ext cx="15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2 400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Rectangle 4"/>
          <p:cNvSpPr/>
          <p:nvPr/>
        </p:nvSpPr>
        <p:spPr>
          <a:xfrm>
            <a:off x="3060720" y="5925960"/>
            <a:ext cx="187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Rectangle 5"/>
          <p:cNvSpPr/>
          <p:nvPr/>
        </p:nvSpPr>
        <p:spPr>
          <a:xfrm>
            <a:off x="4933800" y="5468760"/>
            <a:ext cx="15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800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Rectangle 6"/>
          <p:cNvSpPr/>
          <p:nvPr/>
        </p:nvSpPr>
        <p:spPr>
          <a:xfrm>
            <a:off x="3060720" y="5468760"/>
            <a:ext cx="187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东偏南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3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Rectangle 7"/>
          <p:cNvSpPr/>
          <p:nvPr/>
        </p:nvSpPr>
        <p:spPr>
          <a:xfrm>
            <a:off x="4933800" y="5011560"/>
            <a:ext cx="15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400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Rectangle 8"/>
          <p:cNvSpPr/>
          <p:nvPr/>
        </p:nvSpPr>
        <p:spPr>
          <a:xfrm>
            <a:off x="3060720" y="5011560"/>
            <a:ext cx="187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东偏北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45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Rectangle 9"/>
          <p:cNvSpPr/>
          <p:nvPr/>
        </p:nvSpPr>
        <p:spPr>
          <a:xfrm>
            <a:off x="4933800" y="4554360"/>
            <a:ext cx="15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400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Rectangle 10"/>
          <p:cNvSpPr/>
          <p:nvPr/>
        </p:nvSpPr>
        <p:spPr>
          <a:xfrm>
            <a:off x="3060720" y="4554360"/>
            <a:ext cx="187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西偏南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45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Rectangle 11"/>
          <p:cNvSpPr/>
          <p:nvPr/>
        </p:nvSpPr>
        <p:spPr>
          <a:xfrm>
            <a:off x="4933800" y="4097160"/>
            <a:ext cx="15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800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Rectangle 12"/>
          <p:cNvSpPr/>
          <p:nvPr/>
        </p:nvSpPr>
        <p:spPr>
          <a:xfrm>
            <a:off x="3060720" y="4097160"/>
            <a:ext cx="187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西偏北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3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6" name="Group 13"/>
          <p:cNvGrpSpPr/>
          <p:nvPr/>
        </p:nvGrpSpPr>
        <p:grpSpPr>
          <a:xfrm>
            <a:off x="684360" y="3639960"/>
            <a:ext cx="7510320" cy="2743200"/>
            <a:chOff x="684360" y="3639960"/>
            <a:chExt cx="7510320" cy="2743200"/>
          </a:xfrm>
        </p:grpSpPr>
        <p:sp>
          <p:nvSpPr>
            <p:cNvPr id="2877" name="Rectangle 14"/>
            <p:cNvSpPr/>
            <p:nvPr/>
          </p:nvSpPr>
          <p:spPr>
            <a:xfrm>
              <a:off x="684360" y="5925960"/>
              <a:ext cx="23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全   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Rectangle 15"/>
            <p:cNvSpPr/>
            <p:nvPr/>
          </p:nvSpPr>
          <p:spPr>
            <a:xfrm>
              <a:off x="6483600" y="5468760"/>
              <a:ext cx="171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Rectangle 16"/>
            <p:cNvSpPr/>
            <p:nvPr/>
          </p:nvSpPr>
          <p:spPr>
            <a:xfrm>
              <a:off x="684360" y="5468760"/>
              <a:ext cx="23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商场       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Rectangle 17"/>
            <p:cNvSpPr/>
            <p:nvPr/>
          </p:nvSpPr>
          <p:spPr>
            <a:xfrm>
              <a:off x="6483600" y="5011560"/>
              <a:ext cx="171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Rectangle 18"/>
            <p:cNvSpPr/>
            <p:nvPr/>
          </p:nvSpPr>
          <p:spPr>
            <a:xfrm>
              <a:off x="684360" y="5011560"/>
              <a:ext cx="23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书店       商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Rectangle 19"/>
            <p:cNvSpPr/>
            <p:nvPr/>
          </p:nvSpPr>
          <p:spPr>
            <a:xfrm>
              <a:off x="6483600" y="4554360"/>
              <a:ext cx="171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Rectangle 20"/>
            <p:cNvSpPr/>
            <p:nvPr/>
          </p:nvSpPr>
          <p:spPr>
            <a:xfrm>
              <a:off x="684360" y="4554360"/>
              <a:ext cx="23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商场       书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Rectangle 21"/>
            <p:cNvSpPr/>
            <p:nvPr/>
          </p:nvSpPr>
          <p:spPr>
            <a:xfrm>
              <a:off x="6483600" y="4097160"/>
              <a:ext cx="171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5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分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Rectangle 22"/>
            <p:cNvSpPr/>
            <p:nvPr/>
          </p:nvSpPr>
          <p:spPr>
            <a:xfrm>
              <a:off x="684360" y="4097160"/>
              <a:ext cx="23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家       商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Rectangle 23"/>
            <p:cNvSpPr/>
            <p:nvPr/>
          </p:nvSpPr>
          <p:spPr>
            <a:xfrm>
              <a:off x="6483600" y="3639960"/>
              <a:ext cx="171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间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Rectangle 24"/>
            <p:cNvSpPr/>
            <p:nvPr/>
          </p:nvSpPr>
          <p:spPr>
            <a:xfrm>
              <a:off x="4934160" y="3639960"/>
              <a:ext cx="154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路  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Rectangle 25"/>
            <p:cNvSpPr/>
            <p:nvPr/>
          </p:nvSpPr>
          <p:spPr>
            <a:xfrm>
              <a:off x="3060720" y="3639960"/>
              <a:ext cx="1873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  向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Rectangle 26"/>
            <p:cNvSpPr/>
            <p:nvPr/>
          </p:nvSpPr>
          <p:spPr>
            <a:xfrm>
              <a:off x="684360" y="3639960"/>
              <a:ext cx="23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Line 27"/>
            <p:cNvSpPr/>
            <p:nvPr/>
          </p:nvSpPr>
          <p:spPr>
            <a:xfrm>
              <a:off x="684360" y="3639960"/>
              <a:ext cx="7510320" cy="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Line 28"/>
            <p:cNvSpPr/>
            <p:nvPr/>
          </p:nvSpPr>
          <p:spPr>
            <a:xfrm>
              <a:off x="684360" y="4097160"/>
              <a:ext cx="7510320" cy="0"/>
            </a:xfrm>
            <a:prstGeom prst="line">
              <a:avLst/>
            </a:prstGeom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Line 29"/>
            <p:cNvSpPr/>
            <p:nvPr/>
          </p:nvSpPr>
          <p:spPr>
            <a:xfrm>
              <a:off x="684360" y="4554360"/>
              <a:ext cx="7510320" cy="0"/>
            </a:xfrm>
            <a:prstGeom prst="line">
              <a:avLst/>
            </a:prstGeom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Line 30"/>
            <p:cNvSpPr/>
            <p:nvPr/>
          </p:nvSpPr>
          <p:spPr>
            <a:xfrm>
              <a:off x="684360" y="5011560"/>
              <a:ext cx="7510320" cy="0"/>
            </a:xfrm>
            <a:prstGeom prst="line">
              <a:avLst/>
            </a:prstGeom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Line 31"/>
            <p:cNvSpPr/>
            <p:nvPr/>
          </p:nvSpPr>
          <p:spPr>
            <a:xfrm>
              <a:off x="684360" y="5468760"/>
              <a:ext cx="7510320" cy="0"/>
            </a:xfrm>
            <a:prstGeom prst="line">
              <a:avLst/>
            </a:prstGeom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Line 32"/>
            <p:cNvSpPr/>
            <p:nvPr/>
          </p:nvSpPr>
          <p:spPr>
            <a:xfrm>
              <a:off x="684360" y="5925960"/>
              <a:ext cx="7510320" cy="0"/>
            </a:xfrm>
            <a:prstGeom prst="line">
              <a:avLst/>
            </a:prstGeom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Line 33"/>
            <p:cNvSpPr/>
            <p:nvPr/>
          </p:nvSpPr>
          <p:spPr>
            <a:xfrm>
              <a:off x="684360" y="6383160"/>
              <a:ext cx="7510320" cy="0"/>
            </a:xfrm>
            <a:prstGeom prst="line">
              <a:avLst/>
            </a:prstGeom>
            <a:ln w="284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Line 34"/>
            <p:cNvSpPr/>
            <p:nvPr/>
          </p:nvSpPr>
          <p:spPr>
            <a:xfrm>
              <a:off x="684360" y="36399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Line 35"/>
            <p:cNvSpPr/>
            <p:nvPr/>
          </p:nvSpPr>
          <p:spPr>
            <a:xfrm>
              <a:off x="3060720" y="3639960"/>
              <a:ext cx="0" cy="2743200"/>
            </a:xfrm>
            <a:prstGeom prst="line">
              <a:avLst/>
            </a:prstGeom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Line 36"/>
            <p:cNvSpPr/>
            <p:nvPr/>
          </p:nvSpPr>
          <p:spPr>
            <a:xfrm>
              <a:off x="4934160" y="3639960"/>
              <a:ext cx="0" cy="2743200"/>
            </a:xfrm>
            <a:prstGeom prst="line">
              <a:avLst/>
            </a:prstGeom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Line 37"/>
            <p:cNvSpPr/>
            <p:nvPr/>
          </p:nvSpPr>
          <p:spPr>
            <a:xfrm>
              <a:off x="6483600" y="3639960"/>
              <a:ext cx="0" cy="2743200"/>
            </a:xfrm>
            <a:prstGeom prst="line">
              <a:avLst/>
            </a:prstGeom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Line 38"/>
            <p:cNvSpPr/>
            <p:nvPr/>
          </p:nvSpPr>
          <p:spPr>
            <a:xfrm>
              <a:off x="8194680" y="36399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Line 39"/>
            <p:cNvSpPr/>
            <p:nvPr/>
          </p:nvSpPr>
          <p:spPr>
            <a:xfrm>
              <a:off x="684360" y="40971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Line 40"/>
            <p:cNvSpPr/>
            <p:nvPr/>
          </p:nvSpPr>
          <p:spPr>
            <a:xfrm>
              <a:off x="8194680" y="40971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Line 41"/>
            <p:cNvSpPr/>
            <p:nvPr/>
          </p:nvSpPr>
          <p:spPr>
            <a:xfrm>
              <a:off x="684360" y="45543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Line 42"/>
            <p:cNvSpPr/>
            <p:nvPr/>
          </p:nvSpPr>
          <p:spPr>
            <a:xfrm>
              <a:off x="8194680" y="45543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Line 43"/>
            <p:cNvSpPr/>
            <p:nvPr/>
          </p:nvSpPr>
          <p:spPr>
            <a:xfrm>
              <a:off x="684360" y="50115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Line 44"/>
            <p:cNvSpPr/>
            <p:nvPr/>
          </p:nvSpPr>
          <p:spPr>
            <a:xfrm>
              <a:off x="8194680" y="50115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Line 45"/>
            <p:cNvSpPr/>
            <p:nvPr/>
          </p:nvSpPr>
          <p:spPr>
            <a:xfrm>
              <a:off x="684360" y="54687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Line 46"/>
            <p:cNvSpPr/>
            <p:nvPr/>
          </p:nvSpPr>
          <p:spPr>
            <a:xfrm>
              <a:off x="8194680" y="54687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Line 47"/>
            <p:cNvSpPr/>
            <p:nvPr/>
          </p:nvSpPr>
          <p:spPr>
            <a:xfrm>
              <a:off x="684360" y="59259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Line 48"/>
            <p:cNvSpPr/>
            <p:nvPr/>
          </p:nvSpPr>
          <p:spPr>
            <a:xfrm>
              <a:off x="8194680" y="592596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2" name="Line 49"/>
          <p:cNvSpPr/>
          <p:nvPr/>
        </p:nvSpPr>
        <p:spPr>
          <a:xfrm>
            <a:off x="1498680" y="4348080"/>
            <a:ext cx="431640" cy="0"/>
          </a:xfrm>
          <a:prstGeom prst="line">
            <a:avLst/>
          </a:prstGeom>
          <a:ln w="1908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Line 50"/>
          <p:cNvSpPr/>
          <p:nvPr/>
        </p:nvSpPr>
        <p:spPr>
          <a:xfrm>
            <a:off x="1676520" y="4818240"/>
            <a:ext cx="431640" cy="0"/>
          </a:xfrm>
          <a:prstGeom prst="line">
            <a:avLst/>
          </a:prstGeom>
          <a:ln w="1908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51"/>
          <p:cNvSpPr/>
          <p:nvPr/>
        </p:nvSpPr>
        <p:spPr>
          <a:xfrm>
            <a:off x="1676520" y="5262480"/>
            <a:ext cx="431640" cy="0"/>
          </a:xfrm>
          <a:prstGeom prst="line">
            <a:avLst/>
          </a:prstGeom>
          <a:ln w="1908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Line 52"/>
          <p:cNvSpPr/>
          <p:nvPr/>
        </p:nvSpPr>
        <p:spPr>
          <a:xfrm>
            <a:off x="1798560" y="5716440"/>
            <a:ext cx="432000" cy="0"/>
          </a:xfrm>
          <a:prstGeom prst="line">
            <a:avLst/>
          </a:prstGeom>
          <a:ln w="1908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Line 53"/>
          <p:cNvSpPr/>
          <p:nvPr/>
        </p:nvSpPr>
        <p:spPr>
          <a:xfrm flipV="1">
            <a:off x="3048120" y="5924520"/>
            <a:ext cx="1908000" cy="450720"/>
          </a:xfrm>
          <a:prstGeom prst="line">
            <a:avLst/>
          </a:prstGeom>
          <a:ln w="158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7" name="组合 16455"/>
          <p:cNvGrpSpPr/>
          <p:nvPr/>
        </p:nvGrpSpPr>
        <p:grpSpPr>
          <a:xfrm>
            <a:off x="1187280" y="909720"/>
            <a:ext cx="6984720" cy="2523960"/>
            <a:chOff x="1187280" y="909720"/>
            <a:chExt cx="6984720" cy="2523960"/>
          </a:xfrm>
        </p:grpSpPr>
        <p:grpSp>
          <p:nvGrpSpPr>
            <p:cNvPr id="2918" name="组合 16456"/>
            <p:cNvGrpSpPr/>
            <p:nvPr/>
          </p:nvGrpSpPr>
          <p:grpSpPr>
            <a:xfrm>
              <a:off x="1252440" y="1024560"/>
              <a:ext cx="5368680" cy="2409120"/>
              <a:chOff x="1252440" y="1024560"/>
              <a:chExt cx="5368680" cy="2409120"/>
            </a:xfrm>
          </p:grpSpPr>
          <p:pic>
            <p:nvPicPr>
              <p:cNvPr id="2919" name="Picture 3" descr="023"/>
              <p:cNvPicPr/>
              <p:nvPr/>
            </p:nvPicPr>
            <p:blipFill>
              <a:blip r:embed="rId2"/>
              <a:stretch/>
            </p:blipFill>
            <p:spPr>
              <a:xfrm>
                <a:off x="1451160" y="1024560"/>
                <a:ext cx="5169960" cy="240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0" name="Rectangle 9"/>
              <p:cNvSpPr/>
              <p:nvPr/>
            </p:nvSpPr>
            <p:spPr>
              <a:xfrm>
                <a:off x="1252440" y="2882520"/>
                <a:ext cx="15908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00 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米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1" name="组合 16459"/>
            <p:cNvGrpSpPr/>
            <p:nvPr/>
          </p:nvGrpSpPr>
          <p:grpSpPr>
            <a:xfrm>
              <a:off x="1187280" y="909720"/>
              <a:ext cx="6984720" cy="1790640"/>
              <a:chOff x="1187280" y="909720"/>
              <a:chExt cx="6984720" cy="1790640"/>
            </a:xfrm>
          </p:grpSpPr>
          <p:sp>
            <p:nvSpPr>
              <p:cNvPr id="2922" name="Rectangle 5"/>
              <p:cNvSpPr/>
              <p:nvPr/>
            </p:nvSpPr>
            <p:spPr>
              <a:xfrm>
                <a:off x="4235400" y="1163880"/>
                <a:ext cx="1276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商场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Rectangle 7"/>
              <p:cNvSpPr/>
              <p:nvPr/>
            </p:nvSpPr>
            <p:spPr>
              <a:xfrm>
                <a:off x="6488640" y="2210400"/>
                <a:ext cx="1683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小玲家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Rectangle 8"/>
              <p:cNvSpPr/>
              <p:nvPr/>
            </p:nvSpPr>
            <p:spPr>
              <a:xfrm>
                <a:off x="1187280" y="1110960"/>
                <a:ext cx="1125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书店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Line 10"/>
              <p:cNvSpPr/>
              <p:nvPr/>
            </p:nvSpPr>
            <p:spPr>
              <a:xfrm flipV="1">
                <a:off x="7333200" y="1372680"/>
                <a:ext cx="0" cy="672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bevel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Rectangle 11"/>
              <p:cNvSpPr/>
              <p:nvPr/>
            </p:nvSpPr>
            <p:spPr>
              <a:xfrm>
                <a:off x="7068600" y="909720"/>
                <a:ext cx="530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北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92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929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Rectangle 2"/>
          <p:cNvSpPr/>
          <p:nvPr/>
        </p:nvSpPr>
        <p:spPr>
          <a:xfrm>
            <a:off x="755640" y="15890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. “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路公共电车从起点站向西偏北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0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行驶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千米后向西行驶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千米，最后向南偏西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0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行驶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千米到达终点站。”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上面的描述，把电车行驶的路线图画完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3" name="Group 3"/>
          <p:cNvGrpSpPr/>
          <p:nvPr/>
        </p:nvGrpSpPr>
        <p:grpSpPr>
          <a:xfrm>
            <a:off x="1096200" y="5537160"/>
            <a:ext cx="954720" cy="468000"/>
            <a:chOff x="1096200" y="5537160"/>
            <a:chExt cx="954720" cy="468000"/>
          </a:xfrm>
        </p:grpSpPr>
        <p:grpSp>
          <p:nvGrpSpPr>
            <p:cNvPr id="2934" name="Group 4"/>
            <p:cNvGrpSpPr/>
            <p:nvPr/>
          </p:nvGrpSpPr>
          <p:grpSpPr>
            <a:xfrm>
              <a:off x="1189800" y="5940360"/>
              <a:ext cx="668520" cy="64800"/>
              <a:chOff x="1189800" y="5940360"/>
              <a:chExt cx="668520" cy="64800"/>
            </a:xfrm>
          </p:grpSpPr>
          <p:sp>
            <p:nvSpPr>
              <p:cNvPr id="2935" name="Line 5"/>
              <p:cNvSpPr/>
              <p:nvPr/>
            </p:nvSpPr>
            <p:spPr>
              <a:xfrm>
                <a:off x="1189800" y="6005160"/>
                <a:ext cx="6685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Line 6"/>
              <p:cNvSpPr/>
              <p:nvPr/>
            </p:nvSpPr>
            <p:spPr>
              <a:xfrm flipV="1">
                <a:off x="1191240" y="5940360"/>
                <a:ext cx="0" cy="64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Line 7"/>
              <p:cNvSpPr/>
              <p:nvPr/>
            </p:nvSpPr>
            <p:spPr>
              <a:xfrm flipV="1">
                <a:off x="1858320" y="5940360"/>
                <a:ext cx="0" cy="64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8" name="Rectangle 8"/>
            <p:cNvSpPr/>
            <p:nvPr/>
          </p:nvSpPr>
          <p:spPr>
            <a:xfrm>
              <a:off x="1096200" y="5537160"/>
              <a:ext cx="95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千米  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9" name="Rectangle 9"/>
          <p:cNvSpPr/>
          <p:nvPr/>
        </p:nvSpPr>
        <p:spPr>
          <a:xfrm>
            <a:off x="7315560" y="48546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起点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10"/>
          <p:cNvSpPr/>
          <p:nvPr/>
        </p:nvSpPr>
        <p:spPr>
          <a:xfrm rot="2205000">
            <a:off x="6107760" y="39405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千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Rectangle 11"/>
          <p:cNvSpPr/>
          <p:nvPr/>
        </p:nvSpPr>
        <p:spPr>
          <a:xfrm>
            <a:off x="3943440" y="324324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千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2" name="Group 12"/>
          <p:cNvGrpSpPr/>
          <p:nvPr/>
        </p:nvGrpSpPr>
        <p:grpSpPr>
          <a:xfrm>
            <a:off x="1949400" y="3697560"/>
            <a:ext cx="1298520" cy="1873800"/>
            <a:chOff x="1949400" y="3697560"/>
            <a:chExt cx="1298520" cy="1873800"/>
          </a:xfrm>
        </p:grpSpPr>
        <p:sp>
          <p:nvSpPr>
            <p:cNvPr id="2943" name="Rectangle 13"/>
            <p:cNvSpPr/>
            <p:nvPr/>
          </p:nvSpPr>
          <p:spPr>
            <a:xfrm>
              <a:off x="2611440" y="4357440"/>
              <a:ext cx="6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0°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4" name="Group 14"/>
            <p:cNvGrpSpPr/>
            <p:nvPr/>
          </p:nvGrpSpPr>
          <p:grpSpPr>
            <a:xfrm>
              <a:off x="2646720" y="3697560"/>
              <a:ext cx="384840" cy="613800"/>
              <a:chOff x="2646720" y="3697560"/>
              <a:chExt cx="384840" cy="613800"/>
            </a:xfrm>
          </p:grpSpPr>
          <p:sp>
            <p:nvSpPr>
              <p:cNvPr id="2945" name="Line 15"/>
              <p:cNvSpPr/>
              <p:nvPr/>
            </p:nvSpPr>
            <p:spPr>
              <a:xfrm flipV="1">
                <a:off x="2703240" y="3729960"/>
                <a:ext cx="328320" cy="5814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Line 16"/>
              <p:cNvSpPr/>
              <p:nvPr/>
            </p:nvSpPr>
            <p:spPr>
              <a:xfrm flipH="1" flipV="1">
                <a:off x="2646720" y="4277880"/>
                <a:ext cx="56880" cy="32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Line 17"/>
              <p:cNvSpPr/>
              <p:nvPr/>
            </p:nvSpPr>
            <p:spPr>
              <a:xfrm flipH="1" flipV="1">
                <a:off x="2974680" y="3697560"/>
                <a:ext cx="56520" cy="32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8" name="Group 18"/>
            <p:cNvGrpSpPr/>
            <p:nvPr/>
          </p:nvGrpSpPr>
          <p:grpSpPr>
            <a:xfrm>
              <a:off x="2318400" y="4278600"/>
              <a:ext cx="384120" cy="612360"/>
              <a:chOff x="2318400" y="4278600"/>
              <a:chExt cx="384120" cy="612360"/>
            </a:xfrm>
          </p:grpSpPr>
          <p:sp>
            <p:nvSpPr>
              <p:cNvPr id="2949" name="Line 19"/>
              <p:cNvSpPr/>
              <p:nvPr/>
            </p:nvSpPr>
            <p:spPr>
              <a:xfrm flipV="1">
                <a:off x="2374920" y="4310640"/>
                <a:ext cx="327600" cy="580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Line 20"/>
              <p:cNvSpPr/>
              <p:nvPr/>
            </p:nvSpPr>
            <p:spPr>
              <a:xfrm flipH="1" flipV="1">
                <a:off x="2318400" y="4857480"/>
                <a:ext cx="56880" cy="32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Line 21"/>
              <p:cNvSpPr/>
              <p:nvPr/>
            </p:nvSpPr>
            <p:spPr>
              <a:xfrm flipH="1" flipV="1">
                <a:off x="2645640" y="4278600"/>
                <a:ext cx="56520" cy="32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2" name="Group 22"/>
            <p:cNvGrpSpPr/>
            <p:nvPr/>
          </p:nvGrpSpPr>
          <p:grpSpPr>
            <a:xfrm>
              <a:off x="1998360" y="4860000"/>
              <a:ext cx="383760" cy="612720"/>
              <a:chOff x="1998360" y="4860000"/>
              <a:chExt cx="383760" cy="612720"/>
            </a:xfrm>
          </p:grpSpPr>
          <p:sp>
            <p:nvSpPr>
              <p:cNvPr id="2953" name="Line 23"/>
              <p:cNvSpPr/>
              <p:nvPr/>
            </p:nvSpPr>
            <p:spPr>
              <a:xfrm flipV="1">
                <a:off x="2053800" y="4891680"/>
                <a:ext cx="328320" cy="581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Line 24"/>
              <p:cNvSpPr/>
              <p:nvPr/>
            </p:nvSpPr>
            <p:spPr>
              <a:xfrm flipH="1" flipV="1">
                <a:off x="1998360" y="5439600"/>
                <a:ext cx="56160" cy="32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Line 25"/>
              <p:cNvSpPr/>
              <p:nvPr/>
            </p:nvSpPr>
            <p:spPr>
              <a:xfrm flipH="1" flipV="1">
                <a:off x="2325960" y="4860000"/>
                <a:ext cx="5616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6" name="Line 26"/>
            <p:cNvSpPr/>
            <p:nvPr/>
          </p:nvSpPr>
          <p:spPr>
            <a:xfrm flipV="1">
              <a:off x="2052000" y="5477040"/>
              <a:ext cx="1440" cy="216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27"/>
            <p:cNvSpPr/>
            <p:nvPr/>
          </p:nvSpPr>
          <p:spPr>
            <a:xfrm flipH="1" flipV="1">
              <a:off x="1987200" y="5441760"/>
              <a:ext cx="56160" cy="3168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8" name="Group 28"/>
            <p:cNvGrpSpPr/>
            <p:nvPr/>
          </p:nvGrpSpPr>
          <p:grpSpPr>
            <a:xfrm>
              <a:off x="1949400" y="5378760"/>
              <a:ext cx="191880" cy="192600"/>
              <a:chOff x="1949400" y="5378760"/>
              <a:chExt cx="191880" cy="192600"/>
            </a:xfrm>
          </p:grpSpPr>
          <p:sp>
            <p:nvSpPr>
              <p:cNvPr id="2959" name="Oval 29"/>
              <p:cNvSpPr/>
              <p:nvPr/>
            </p:nvSpPr>
            <p:spPr>
              <a:xfrm>
                <a:off x="1949400" y="5378760"/>
                <a:ext cx="191880" cy="192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Oval 30"/>
              <p:cNvSpPr/>
              <p:nvPr/>
            </p:nvSpPr>
            <p:spPr>
              <a:xfrm>
                <a:off x="1997280" y="5429160"/>
                <a:ext cx="93240" cy="93600"/>
              </a:xfrm>
              <a:prstGeom prst="ellipse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1" name="Line 31"/>
            <p:cNvSpPr/>
            <p:nvPr/>
          </p:nvSpPr>
          <p:spPr>
            <a:xfrm>
              <a:off x="3041640" y="3744360"/>
              <a:ext cx="0" cy="132660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Arc 32"/>
            <p:cNvSpPr/>
            <p:nvPr/>
          </p:nvSpPr>
          <p:spPr>
            <a:xfrm rot="20101800">
              <a:off x="2782800" y="4037400"/>
              <a:ext cx="200160" cy="286560"/>
            </a:xfrm>
            <a:custGeom>
              <a:avLst/>
              <a:gdLst/>
              <a:ahLst/>
              <a:rect l="l" t="t" r="r" b="b"/>
              <a:pathLst>
                <a:path fill="none" w="22208" h="21600">
                  <a:moveTo>
                    <a:pt x="22208" y="21480"/>
                  </a:moveTo>
                  <a:cubicBezTo>
                    <a:pt x="21452" y="21559"/>
                    <a:pt x="20694" y="21599"/>
                    <a:pt x="19935" y="21600"/>
                  </a:cubicBezTo>
                  <a:cubicBezTo>
                    <a:pt x="11218" y="21600"/>
                    <a:pt x="3355" y="16360"/>
                    <a:pt x="0" y="8315"/>
                  </a:cubicBezTo>
                </a:path>
                <a:path stroke="0" w="22208" h="21600">
                  <a:moveTo>
                    <a:pt x="22208" y="21480"/>
                  </a:moveTo>
                  <a:cubicBezTo>
                    <a:pt x="21452" y="21559"/>
                    <a:pt x="20694" y="21599"/>
                    <a:pt x="19935" y="21600"/>
                  </a:cubicBezTo>
                  <a:cubicBezTo>
                    <a:pt x="11218" y="21600"/>
                    <a:pt x="3355" y="16360"/>
                    <a:pt x="0" y="8315"/>
                  </a:cubicBezTo>
                  <a:lnTo>
                    <a:pt x="19935" y="0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3" name="Line 34"/>
          <p:cNvSpPr/>
          <p:nvPr/>
        </p:nvSpPr>
        <p:spPr>
          <a:xfrm>
            <a:off x="6467400" y="4843440"/>
            <a:ext cx="1446120" cy="0"/>
          </a:xfrm>
          <a:prstGeom prst="line">
            <a:avLst/>
          </a:prstGeom>
          <a:ln w="22320">
            <a:solidFill>
              <a:srgbClr val="00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Line 35"/>
          <p:cNvSpPr/>
          <p:nvPr/>
        </p:nvSpPr>
        <p:spPr>
          <a:xfrm flipV="1">
            <a:off x="7189920" y="4119480"/>
            <a:ext cx="0" cy="1447920"/>
          </a:xfrm>
          <a:prstGeom prst="line">
            <a:avLst/>
          </a:prstGeom>
          <a:ln w="22320">
            <a:solidFill>
              <a:srgbClr val="00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36"/>
          <p:cNvSpPr/>
          <p:nvPr/>
        </p:nvSpPr>
        <p:spPr>
          <a:xfrm>
            <a:off x="6328080" y="4421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0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Arc 37"/>
          <p:cNvSpPr/>
          <p:nvPr/>
        </p:nvSpPr>
        <p:spPr>
          <a:xfrm flipH="1" rot="20040000">
            <a:off x="6839280" y="4671720"/>
            <a:ext cx="142920" cy="1429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7" name="Group 38"/>
          <p:cNvGrpSpPr/>
          <p:nvPr/>
        </p:nvGrpSpPr>
        <p:grpSpPr>
          <a:xfrm>
            <a:off x="2944800" y="3649680"/>
            <a:ext cx="2768040" cy="193320"/>
            <a:chOff x="2944800" y="3649680"/>
            <a:chExt cx="2768040" cy="193320"/>
          </a:xfrm>
        </p:grpSpPr>
        <p:grpSp>
          <p:nvGrpSpPr>
            <p:cNvPr id="2968" name="Group 39"/>
            <p:cNvGrpSpPr/>
            <p:nvPr/>
          </p:nvGrpSpPr>
          <p:grpSpPr>
            <a:xfrm>
              <a:off x="3035160" y="3688920"/>
              <a:ext cx="2677680" cy="65520"/>
              <a:chOff x="3035160" y="3688920"/>
              <a:chExt cx="2677680" cy="65520"/>
            </a:xfrm>
          </p:grpSpPr>
          <p:grpSp>
            <p:nvGrpSpPr>
              <p:cNvPr id="2969" name="Group 40"/>
              <p:cNvGrpSpPr/>
              <p:nvPr/>
            </p:nvGrpSpPr>
            <p:grpSpPr>
              <a:xfrm>
                <a:off x="5043960" y="3688920"/>
                <a:ext cx="668880" cy="65520"/>
                <a:chOff x="5043960" y="3688920"/>
                <a:chExt cx="668880" cy="65520"/>
              </a:xfrm>
            </p:grpSpPr>
            <p:sp>
              <p:nvSpPr>
                <p:cNvPr id="2970" name="Line 41"/>
                <p:cNvSpPr/>
                <p:nvPr/>
              </p:nvSpPr>
              <p:spPr>
                <a:xfrm>
                  <a:off x="5043960" y="3754440"/>
                  <a:ext cx="6688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1" name="Line 42"/>
                <p:cNvSpPr/>
                <p:nvPr/>
              </p:nvSpPr>
              <p:spPr>
                <a:xfrm flipV="1">
                  <a:off x="5045400" y="3688920"/>
                  <a:ext cx="0" cy="65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Line 43"/>
                <p:cNvSpPr/>
                <p:nvPr/>
              </p:nvSpPr>
              <p:spPr>
                <a:xfrm flipV="1">
                  <a:off x="5712840" y="3688920"/>
                  <a:ext cx="0" cy="65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3" name="Group 44"/>
              <p:cNvGrpSpPr/>
              <p:nvPr/>
            </p:nvGrpSpPr>
            <p:grpSpPr>
              <a:xfrm>
                <a:off x="4374720" y="3688920"/>
                <a:ext cx="668880" cy="65520"/>
                <a:chOff x="4374720" y="3688920"/>
                <a:chExt cx="668880" cy="65520"/>
              </a:xfrm>
            </p:grpSpPr>
            <p:sp>
              <p:nvSpPr>
                <p:cNvPr id="2974" name="Line 45"/>
                <p:cNvSpPr/>
                <p:nvPr/>
              </p:nvSpPr>
              <p:spPr>
                <a:xfrm>
                  <a:off x="4374720" y="3754440"/>
                  <a:ext cx="6688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5" name="Line 46"/>
                <p:cNvSpPr/>
                <p:nvPr/>
              </p:nvSpPr>
              <p:spPr>
                <a:xfrm flipV="1">
                  <a:off x="4376160" y="3688920"/>
                  <a:ext cx="0" cy="65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6" name="Line 47"/>
                <p:cNvSpPr/>
                <p:nvPr/>
              </p:nvSpPr>
              <p:spPr>
                <a:xfrm flipV="1">
                  <a:off x="5043600" y="3688920"/>
                  <a:ext cx="0" cy="65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7" name="Group 48"/>
              <p:cNvGrpSpPr/>
              <p:nvPr/>
            </p:nvGrpSpPr>
            <p:grpSpPr>
              <a:xfrm>
                <a:off x="3705480" y="3688920"/>
                <a:ext cx="668880" cy="65520"/>
                <a:chOff x="3705480" y="3688920"/>
                <a:chExt cx="668880" cy="65520"/>
              </a:xfrm>
            </p:grpSpPr>
            <p:sp>
              <p:nvSpPr>
                <p:cNvPr id="2978" name="Line 49"/>
                <p:cNvSpPr/>
                <p:nvPr/>
              </p:nvSpPr>
              <p:spPr>
                <a:xfrm>
                  <a:off x="3705480" y="3754440"/>
                  <a:ext cx="6688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Line 50"/>
                <p:cNvSpPr/>
                <p:nvPr/>
              </p:nvSpPr>
              <p:spPr>
                <a:xfrm flipV="1">
                  <a:off x="3706920" y="3688920"/>
                  <a:ext cx="0" cy="65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0" name="Line 51"/>
                <p:cNvSpPr/>
                <p:nvPr/>
              </p:nvSpPr>
              <p:spPr>
                <a:xfrm flipV="1">
                  <a:off x="4374360" y="3688920"/>
                  <a:ext cx="0" cy="65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1" name="Group 52"/>
              <p:cNvGrpSpPr/>
              <p:nvPr/>
            </p:nvGrpSpPr>
            <p:grpSpPr>
              <a:xfrm>
                <a:off x="3035160" y="3688920"/>
                <a:ext cx="668880" cy="65520"/>
                <a:chOff x="3035160" y="3688920"/>
                <a:chExt cx="668880" cy="65520"/>
              </a:xfrm>
            </p:grpSpPr>
            <p:sp>
              <p:nvSpPr>
                <p:cNvPr id="2982" name="Line 53"/>
                <p:cNvSpPr/>
                <p:nvPr/>
              </p:nvSpPr>
              <p:spPr>
                <a:xfrm>
                  <a:off x="3035160" y="3754440"/>
                  <a:ext cx="6688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3" name="Line 54"/>
                <p:cNvSpPr/>
                <p:nvPr/>
              </p:nvSpPr>
              <p:spPr>
                <a:xfrm flipV="1">
                  <a:off x="3036600" y="3688920"/>
                  <a:ext cx="0" cy="65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Line 55"/>
                <p:cNvSpPr/>
                <p:nvPr/>
              </p:nvSpPr>
              <p:spPr>
                <a:xfrm flipV="1">
                  <a:off x="3704040" y="3688920"/>
                  <a:ext cx="0" cy="651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5" name="Group 56"/>
            <p:cNvGrpSpPr/>
            <p:nvPr/>
          </p:nvGrpSpPr>
          <p:grpSpPr>
            <a:xfrm>
              <a:off x="2944800" y="3649680"/>
              <a:ext cx="191880" cy="193320"/>
              <a:chOff x="2944800" y="3649680"/>
              <a:chExt cx="191880" cy="193320"/>
            </a:xfrm>
          </p:grpSpPr>
          <p:sp>
            <p:nvSpPr>
              <p:cNvPr id="2986" name="Oval 57"/>
              <p:cNvSpPr/>
              <p:nvPr/>
            </p:nvSpPr>
            <p:spPr>
              <a:xfrm>
                <a:off x="2944800" y="3649680"/>
                <a:ext cx="191880" cy="193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Oval 58"/>
              <p:cNvSpPr/>
              <p:nvPr/>
            </p:nvSpPr>
            <p:spPr>
              <a:xfrm>
                <a:off x="2992680" y="3700440"/>
                <a:ext cx="93240" cy="93960"/>
              </a:xfrm>
              <a:prstGeom prst="ellipse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8" name="Group 59"/>
          <p:cNvGrpSpPr/>
          <p:nvPr/>
        </p:nvGrpSpPr>
        <p:grpSpPr>
          <a:xfrm>
            <a:off x="5580000" y="3645000"/>
            <a:ext cx="1631520" cy="1190880"/>
            <a:chOff x="5580000" y="3645000"/>
            <a:chExt cx="1631520" cy="1190880"/>
          </a:xfrm>
        </p:grpSpPr>
        <p:grpSp>
          <p:nvGrpSpPr>
            <p:cNvPr id="2989" name="Group 60"/>
            <p:cNvGrpSpPr/>
            <p:nvPr/>
          </p:nvGrpSpPr>
          <p:grpSpPr>
            <a:xfrm>
              <a:off x="5711400" y="3702960"/>
              <a:ext cx="1500120" cy="1132920"/>
              <a:chOff x="5711400" y="3702960"/>
              <a:chExt cx="1500120" cy="1132920"/>
            </a:xfrm>
          </p:grpSpPr>
          <p:sp>
            <p:nvSpPr>
              <p:cNvPr id="2990" name="Line 61"/>
              <p:cNvSpPr/>
              <p:nvPr/>
            </p:nvSpPr>
            <p:spPr>
              <a:xfrm flipV="1">
                <a:off x="6226200" y="4069080"/>
                <a:ext cx="41400" cy="493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Line 62"/>
              <p:cNvSpPr/>
              <p:nvPr/>
            </p:nvSpPr>
            <p:spPr>
              <a:xfrm flipV="1">
                <a:off x="6737040" y="4434480"/>
                <a:ext cx="41760" cy="49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Line 63"/>
              <p:cNvSpPr/>
              <p:nvPr/>
            </p:nvSpPr>
            <p:spPr>
              <a:xfrm flipV="1">
                <a:off x="5714640" y="3702960"/>
                <a:ext cx="41760" cy="49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Line 64"/>
              <p:cNvSpPr/>
              <p:nvPr/>
            </p:nvSpPr>
            <p:spPr>
              <a:xfrm flipH="1" flipV="1">
                <a:off x="5711400" y="3753360"/>
                <a:ext cx="1500120" cy="1082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4" name="Group 65"/>
            <p:cNvGrpSpPr/>
            <p:nvPr/>
          </p:nvGrpSpPr>
          <p:grpSpPr>
            <a:xfrm>
              <a:off x="5580000" y="3645000"/>
              <a:ext cx="191880" cy="192960"/>
              <a:chOff x="5580000" y="3645000"/>
              <a:chExt cx="191880" cy="192960"/>
            </a:xfrm>
          </p:grpSpPr>
          <p:sp>
            <p:nvSpPr>
              <p:cNvPr id="2995" name="Oval 66"/>
              <p:cNvSpPr/>
              <p:nvPr/>
            </p:nvSpPr>
            <p:spPr>
              <a:xfrm>
                <a:off x="5580000" y="3645000"/>
                <a:ext cx="191880" cy="192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Oval 67"/>
              <p:cNvSpPr/>
              <p:nvPr/>
            </p:nvSpPr>
            <p:spPr>
              <a:xfrm>
                <a:off x="5627880" y="3695400"/>
                <a:ext cx="93240" cy="93600"/>
              </a:xfrm>
              <a:prstGeom prst="ellipse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97" name="Oval 68"/>
          <p:cNvSpPr/>
          <p:nvPr/>
        </p:nvSpPr>
        <p:spPr>
          <a:xfrm>
            <a:off x="7104240" y="4754520"/>
            <a:ext cx="171360" cy="1713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8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999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1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12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13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4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5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6" name="Rectangle 2"/>
          <p:cNvSpPr/>
          <p:nvPr/>
        </p:nvSpPr>
        <p:spPr>
          <a:xfrm>
            <a:off x="395280" y="1916280"/>
            <a:ext cx="8137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据路线图，说一说电车回程时所行驶的方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路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Rectangle 3"/>
          <p:cNvSpPr/>
          <p:nvPr/>
        </p:nvSpPr>
        <p:spPr>
          <a:xfrm>
            <a:off x="898560" y="3427560"/>
            <a:ext cx="7489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:  1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路公共电车从终点站向北偏东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30º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行驶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千米后向东行驶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千米，最后向东偏南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40º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行驶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千米回到起点站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8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019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1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32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33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4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5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6" name="TextBox 19"/>
          <p:cNvSpPr/>
          <p:nvPr/>
        </p:nvSpPr>
        <p:spPr>
          <a:xfrm>
            <a:off x="3276720" y="1413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数与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5"/>
          <p:cNvSpPr/>
          <p:nvPr/>
        </p:nvSpPr>
        <p:spPr>
          <a:xfrm>
            <a:off x="395280" y="2205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把一根钢条锯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段一共用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。锯一次平均要用多少分钟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7"/>
          <p:cNvSpPr/>
          <p:nvPr/>
        </p:nvSpPr>
        <p:spPr>
          <a:xfrm>
            <a:off x="1835280" y="3882960"/>
            <a:ext cx="1655640" cy="0"/>
          </a:xfrm>
          <a:prstGeom prst="line">
            <a:avLst/>
          </a:prstGeom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8"/>
          <p:cNvSpPr/>
          <p:nvPr/>
        </p:nvSpPr>
        <p:spPr>
          <a:xfrm>
            <a:off x="3490920" y="3306600"/>
            <a:ext cx="0" cy="1008360"/>
          </a:xfrm>
          <a:prstGeom prst="line">
            <a:avLst/>
          </a:prstGeom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9"/>
          <p:cNvSpPr/>
          <p:nvPr/>
        </p:nvSpPr>
        <p:spPr>
          <a:xfrm>
            <a:off x="5148360" y="3235320"/>
            <a:ext cx="0" cy="1079640"/>
          </a:xfrm>
          <a:prstGeom prst="line">
            <a:avLst/>
          </a:prstGeom>
          <a:ln w="3816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10"/>
          <p:cNvSpPr/>
          <p:nvPr/>
        </p:nvSpPr>
        <p:spPr>
          <a:xfrm>
            <a:off x="3490920" y="3882960"/>
            <a:ext cx="1655640" cy="0"/>
          </a:xfrm>
          <a:prstGeom prst="line">
            <a:avLst/>
          </a:prstGeom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11"/>
          <p:cNvSpPr/>
          <p:nvPr/>
        </p:nvSpPr>
        <p:spPr>
          <a:xfrm>
            <a:off x="5148360" y="3882960"/>
            <a:ext cx="1655640" cy="0"/>
          </a:xfrm>
          <a:prstGeom prst="line">
            <a:avLst/>
          </a:prstGeom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Text Box 12"/>
          <p:cNvSpPr/>
          <p:nvPr/>
        </p:nvSpPr>
        <p:spPr>
          <a:xfrm>
            <a:off x="1979640" y="4195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一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13"/>
          <p:cNvSpPr/>
          <p:nvPr/>
        </p:nvSpPr>
        <p:spPr>
          <a:xfrm>
            <a:off x="3780000" y="4195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一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14"/>
          <p:cNvSpPr/>
          <p:nvPr/>
        </p:nvSpPr>
        <p:spPr>
          <a:xfrm>
            <a:off x="5364000" y="41958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一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Text Box 15"/>
          <p:cNvSpPr/>
          <p:nvPr/>
        </p:nvSpPr>
        <p:spPr>
          <a:xfrm>
            <a:off x="2987640" y="2730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Text Box 16"/>
          <p:cNvSpPr/>
          <p:nvPr/>
        </p:nvSpPr>
        <p:spPr>
          <a:xfrm>
            <a:off x="4714920" y="2730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Text Box 17"/>
          <p:cNvSpPr/>
          <p:nvPr/>
        </p:nvSpPr>
        <p:spPr>
          <a:xfrm>
            <a:off x="3274920" y="47750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÷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  <a:ea typeface="宋体"/>
              </a:rPr>
              <a:t>＝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  <a:ea typeface="宋体"/>
              </a:rPr>
              <a:t>（分钟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Text Box 18"/>
          <p:cNvSpPr/>
          <p:nvPr/>
        </p:nvSpPr>
        <p:spPr>
          <a:xfrm>
            <a:off x="684360" y="5516640"/>
            <a:ext cx="799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宋体"/>
              </a:rPr>
              <a:t>有些数学问题借助图形来分析，显得直观，更容易解答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3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74746E-006 L -0.01962 0.06291 E">
                                      <p:cBhvr>
                                        <p:cTn id="468" dur="2000" fill="hold"/>
                                        <p:tgtEl>
                                          <p:spTgt spid="3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1"/>
                            </p:stCondLst>
                            <p:childTnLst>
                              <p:par>
                                <p:cTn id="4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3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1"/>
                            </p:stCondLst>
                            <p:childTnLst>
                              <p:par>
                                <p:cTn id="47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2105 L -0.01945 0.08395 E">
                                      <p:cBhvr>
                                        <p:cTn id="478" dur="2000" fill="hold"/>
                                        <p:tgtEl>
                                          <p:spTgt spid="30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001"/>
                            </p:stCondLst>
                            <p:childTnLst>
                              <p:par>
                                <p:cTn id="4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2"/>
                            </p:stCondLst>
                            <p:childTnLst>
                              <p:par>
                                <p:cTn id="48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4746E-006 L 0.05903 0.07331 E">
                                      <p:cBhvr>
                                        <p:cTn id="484" dur="2000" fill="hold"/>
                                        <p:tgtEl>
                                          <p:spTgt spid="30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8002"/>
                            </p:stCondLst>
                            <p:childTnLst>
                              <p:par>
                                <p:cTn id="4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3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3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0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051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3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3064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3065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6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7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8" name="Text Box 3"/>
          <p:cNvSpPr/>
          <p:nvPr/>
        </p:nvSpPr>
        <p:spPr>
          <a:xfrm>
            <a:off x="324000" y="1125360"/>
            <a:ext cx="838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兰和爸爸、妈妈一起步行到离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远的健身中心，用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。妈妈到了健身中心后直接返回家里，还是用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。小兰和爸爸一起在健身中心锻炼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，然后小兰跑步回到家中，用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，而爸爸是走回家中，用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下面的图分别描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离家时间和离家距离的关系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9" name="Group 4"/>
          <p:cNvGrpSpPr/>
          <p:nvPr/>
        </p:nvGrpSpPr>
        <p:grpSpPr>
          <a:xfrm>
            <a:off x="539640" y="3546360"/>
            <a:ext cx="2732040" cy="2405160"/>
            <a:chOff x="539640" y="3546360"/>
            <a:chExt cx="2732040" cy="2405160"/>
          </a:xfrm>
        </p:grpSpPr>
        <p:grpSp>
          <p:nvGrpSpPr>
            <p:cNvPr id="3070" name="Group 5"/>
            <p:cNvGrpSpPr/>
            <p:nvPr/>
          </p:nvGrpSpPr>
          <p:grpSpPr>
            <a:xfrm>
              <a:off x="971280" y="4338000"/>
              <a:ext cx="865080" cy="1351440"/>
              <a:chOff x="971280" y="4338000"/>
              <a:chExt cx="865080" cy="1351440"/>
            </a:xfrm>
          </p:grpSpPr>
          <p:sp>
            <p:nvSpPr>
              <p:cNvPr id="3071" name="Line 6"/>
              <p:cNvSpPr/>
              <p:nvPr/>
            </p:nvSpPr>
            <p:spPr>
              <a:xfrm flipV="1">
                <a:off x="971280" y="4338000"/>
                <a:ext cx="432360" cy="1351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Line 7"/>
              <p:cNvSpPr/>
              <p:nvPr/>
            </p:nvSpPr>
            <p:spPr>
              <a:xfrm>
                <a:off x="1403640" y="4338360"/>
                <a:ext cx="2757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Line 8"/>
              <p:cNvSpPr/>
              <p:nvPr/>
            </p:nvSpPr>
            <p:spPr>
              <a:xfrm>
                <a:off x="1679400" y="4338360"/>
                <a:ext cx="156960" cy="1351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4" name="Group 9"/>
            <p:cNvGrpSpPr/>
            <p:nvPr/>
          </p:nvGrpSpPr>
          <p:grpSpPr>
            <a:xfrm>
              <a:off x="539640" y="3546360"/>
              <a:ext cx="2732040" cy="2405160"/>
              <a:chOff x="539640" y="3546360"/>
              <a:chExt cx="2732040" cy="2405160"/>
            </a:xfrm>
          </p:grpSpPr>
          <p:grpSp>
            <p:nvGrpSpPr>
              <p:cNvPr id="3075" name="Group 10"/>
              <p:cNvGrpSpPr/>
              <p:nvPr/>
            </p:nvGrpSpPr>
            <p:grpSpPr>
              <a:xfrm>
                <a:off x="944280" y="3849120"/>
                <a:ext cx="2100600" cy="1816560"/>
                <a:chOff x="944280" y="3849120"/>
                <a:chExt cx="2100600" cy="1816560"/>
              </a:xfrm>
            </p:grpSpPr>
            <p:sp>
              <p:nvSpPr>
                <p:cNvPr id="3076" name="Line 11"/>
                <p:cNvSpPr/>
                <p:nvPr/>
              </p:nvSpPr>
              <p:spPr>
                <a:xfrm flipV="1">
                  <a:off x="944280" y="3849120"/>
                  <a:ext cx="0" cy="1816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12"/>
                <p:cNvSpPr/>
                <p:nvPr/>
              </p:nvSpPr>
              <p:spPr>
                <a:xfrm>
                  <a:off x="944280" y="5665680"/>
                  <a:ext cx="21006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8" name="Line 13"/>
              <p:cNvSpPr/>
              <p:nvPr/>
            </p:nvSpPr>
            <p:spPr>
              <a:xfrm>
                <a:off x="944280" y="4333680"/>
                <a:ext cx="399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Line 14"/>
              <p:cNvSpPr/>
              <p:nvPr/>
            </p:nvSpPr>
            <p:spPr>
              <a:xfrm>
                <a:off x="944280" y="4979880"/>
                <a:ext cx="399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Line 15"/>
              <p:cNvSpPr/>
              <p:nvPr/>
            </p:nvSpPr>
            <p:spPr>
              <a:xfrm>
                <a:off x="1954080" y="558468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Line 16"/>
              <p:cNvSpPr/>
              <p:nvPr/>
            </p:nvSpPr>
            <p:spPr>
              <a:xfrm>
                <a:off x="1447560" y="558468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Line 17"/>
              <p:cNvSpPr/>
              <p:nvPr/>
            </p:nvSpPr>
            <p:spPr>
              <a:xfrm>
                <a:off x="1184040" y="557820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Line 18"/>
              <p:cNvSpPr/>
              <p:nvPr/>
            </p:nvSpPr>
            <p:spPr>
              <a:xfrm>
                <a:off x="1704960" y="557820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Line 19"/>
              <p:cNvSpPr/>
              <p:nvPr/>
            </p:nvSpPr>
            <p:spPr>
              <a:xfrm>
                <a:off x="2217600" y="558468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Line 20"/>
              <p:cNvSpPr/>
              <p:nvPr/>
            </p:nvSpPr>
            <p:spPr>
              <a:xfrm>
                <a:off x="2489040" y="558468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Text Box 21"/>
              <p:cNvSpPr/>
              <p:nvPr/>
            </p:nvSpPr>
            <p:spPr>
              <a:xfrm>
                <a:off x="539640" y="4252680"/>
                <a:ext cx="46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Text Box 22"/>
              <p:cNvSpPr/>
              <p:nvPr/>
            </p:nvSpPr>
            <p:spPr>
              <a:xfrm>
                <a:off x="539640" y="4859280"/>
                <a:ext cx="46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Text Box 23"/>
              <p:cNvSpPr/>
              <p:nvPr/>
            </p:nvSpPr>
            <p:spPr>
              <a:xfrm>
                <a:off x="865080" y="5705280"/>
                <a:ext cx="2406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0   20    30   40   50    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离家时间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分  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Text Box 24"/>
              <p:cNvSpPr/>
              <p:nvPr/>
            </p:nvSpPr>
            <p:spPr>
              <a:xfrm>
                <a:off x="655200" y="3546360"/>
                <a:ext cx="76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离家距离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/m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0" name="Group 25"/>
          <p:cNvGrpSpPr/>
          <p:nvPr/>
        </p:nvGrpSpPr>
        <p:grpSpPr>
          <a:xfrm>
            <a:off x="3132000" y="3546360"/>
            <a:ext cx="2732040" cy="2405160"/>
            <a:chOff x="3132000" y="3546360"/>
            <a:chExt cx="2732040" cy="2405160"/>
          </a:xfrm>
        </p:grpSpPr>
        <p:grpSp>
          <p:nvGrpSpPr>
            <p:cNvPr id="3091" name="Group 26"/>
            <p:cNvGrpSpPr/>
            <p:nvPr/>
          </p:nvGrpSpPr>
          <p:grpSpPr>
            <a:xfrm>
              <a:off x="3132000" y="3546360"/>
              <a:ext cx="2732040" cy="2405160"/>
              <a:chOff x="3132000" y="3546360"/>
              <a:chExt cx="2732040" cy="2405160"/>
            </a:xfrm>
          </p:grpSpPr>
          <p:grpSp>
            <p:nvGrpSpPr>
              <p:cNvPr id="3092" name="Group 27"/>
              <p:cNvGrpSpPr/>
              <p:nvPr/>
            </p:nvGrpSpPr>
            <p:grpSpPr>
              <a:xfrm>
                <a:off x="3536640" y="3849120"/>
                <a:ext cx="2100600" cy="1816560"/>
                <a:chOff x="3536640" y="3849120"/>
                <a:chExt cx="2100600" cy="1816560"/>
              </a:xfrm>
            </p:grpSpPr>
            <p:sp>
              <p:nvSpPr>
                <p:cNvPr id="3093" name="Line 28"/>
                <p:cNvSpPr/>
                <p:nvPr/>
              </p:nvSpPr>
              <p:spPr>
                <a:xfrm flipV="1">
                  <a:off x="3536640" y="3849120"/>
                  <a:ext cx="0" cy="1816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29"/>
                <p:cNvSpPr/>
                <p:nvPr/>
              </p:nvSpPr>
              <p:spPr>
                <a:xfrm>
                  <a:off x="3536640" y="5665680"/>
                  <a:ext cx="21006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5" name="Line 30"/>
              <p:cNvSpPr/>
              <p:nvPr/>
            </p:nvSpPr>
            <p:spPr>
              <a:xfrm>
                <a:off x="3536640" y="4333680"/>
                <a:ext cx="399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Line 31"/>
              <p:cNvSpPr/>
              <p:nvPr/>
            </p:nvSpPr>
            <p:spPr>
              <a:xfrm>
                <a:off x="3536640" y="4979880"/>
                <a:ext cx="399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Line 32"/>
              <p:cNvSpPr/>
              <p:nvPr/>
            </p:nvSpPr>
            <p:spPr>
              <a:xfrm>
                <a:off x="4546440" y="558468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Line 33"/>
              <p:cNvSpPr/>
              <p:nvPr/>
            </p:nvSpPr>
            <p:spPr>
              <a:xfrm>
                <a:off x="4039920" y="558468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Line 34"/>
              <p:cNvSpPr/>
              <p:nvPr/>
            </p:nvSpPr>
            <p:spPr>
              <a:xfrm>
                <a:off x="3776400" y="557820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Line 35"/>
              <p:cNvSpPr/>
              <p:nvPr/>
            </p:nvSpPr>
            <p:spPr>
              <a:xfrm>
                <a:off x="4297320" y="557820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Line 36"/>
              <p:cNvSpPr/>
              <p:nvPr/>
            </p:nvSpPr>
            <p:spPr>
              <a:xfrm>
                <a:off x="4809960" y="558468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Line 37"/>
              <p:cNvSpPr/>
              <p:nvPr/>
            </p:nvSpPr>
            <p:spPr>
              <a:xfrm>
                <a:off x="5081400" y="558468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Text Box 38"/>
              <p:cNvSpPr/>
              <p:nvPr/>
            </p:nvSpPr>
            <p:spPr>
              <a:xfrm>
                <a:off x="3132000" y="4252680"/>
                <a:ext cx="46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Text Box 39"/>
              <p:cNvSpPr/>
              <p:nvPr/>
            </p:nvSpPr>
            <p:spPr>
              <a:xfrm>
                <a:off x="3132000" y="4859280"/>
                <a:ext cx="46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Text Box 40"/>
              <p:cNvSpPr/>
              <p:nvPr/>
            </p:nvSpPr>
            <p:spPr>
              <a:xfrm>
                <a:off x="3457440" y="5705280"/>
                <a:ext cx="2406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0   20    30   40   50    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离家时间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分  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Text Box 41"/>
              <p:cNvSpPr/>
              <p:nvPr/>
            </p:nvSpPr>
            <p:spPr>
              <a:xfrm>
                <a:off x="3247560" y="3546360"/>
                <a:ext cx="76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离家距离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/m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7" name="Group 42"/>
            <p:cNvGrpSpPr/>
            <p:nvPr/>
          </p:nvGrpSpPr>
          <p:grpSpPr>
            <a:xfrm>
              <a:off x="3563640" y="4349520"/>
              <a:ext cx="955800" cy="1311120"/>
              <a:chOff x="3563640" y="4349520"/>
              <a:chExt cx="955800" cy="1311120"/>
            </a:xfrm>
          </p:grpSpPr>
          <p:sp>
            <p:nvSpPr>
              <p:cNvPr id="3108" name="Line 43"/>
              <p:cNvSpPr/>
              <p:nvPr/>
            </p:nvSpPr>
            <p:spPr>
              <a:xfrm flipV="1">
                <a:off x="3563640" y="4349520"/>
                <a:ext cx="503280" cy="1311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Line 44"/>
              <p:cNvSpPr/>
              <p:nvPr/>
            </p:nvSpPr>
            <p:spPr>
              <a:xfrm>
                <a:off x="4068360" y="4354200"/>
                <a:ext cx="451080" cy="1301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0" name="Group 45"/>
          <p:cNvGrpSpPr/>
          <p:nvPr/>
        </p:nvGrpSpPr>
        <p:grpSpPr>
          <a:xfrm>
            <a:off x="5796000" y="3573360"/>
            <a:ext cx="2732040" cy="2405160"/>
            <a:chOff x="5796000" y="3573360"/>
            <a:chExt cx="2732040" cy="2405160"/>
          </a:xfrm>
        </p:grpSpPr>
        <p:grpSp>
          <p:nvGrpSpPr>
            <p:cNvPr id="3111" name="Group 46"/>
            <p:cNvGrpSpPr/>
            <p:nvPr/>
          </p:nvGrpSpPr>
          <p:grpSpPr>
            <a:xfrm>
              <a:off x="5796000" y="3573360"/>
              <a:ext cx="2732040" cy="2405160"/>
              <a:chOff x="5796000" y="3573360"/>
              <a:chExt cx="2732040" cy="2405160"/>
            </a:xfrm>
          </p:grpSpPr>
          <p:grpSp>
            <p:nvGrpSpPr>
              <p:cNvPr id="3112" name="Group 47"/>
              <p:cNvGrpSpPr/>
              <p:nvPr/>
            </p:nvGrpSpPr>
            <p:grpSpPr>
              <a:xfrm>
                <a:off x="6200640" y="3876120"/>
                <a:ext cx="2100600" cy="1816560"/>
                <a:chOff x="6200640" y="3876120"/>
                <a:chExt cx="2100600" cy="1816560"/>
              </a:xfrm>
            </p:grpSpPr>
            <p:sp>
              <p:nvSpPr>
                <p:cNvPr id="3113" name="Line 48"/>
                <p:cNvSpPr/>
                <p:nvPr/>
              </p:nvSpPr>
              <p:spPr>
                <a:xfrm flipV="1">
                  <a:off x="6200640" y="3876120"/>
                  <a:ext cx="0" cy="18162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49"/>
                <p:cNvSpPr/>
                <p:nvPr/>
              </p:nvSpPr>
              <p:spPr>
                <a:xfrm>
                  <a:off x="6200640" y="5692680"/>
                  <a:ext cx="21006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5" name="Line 50"/>
              <p:cNvSpPr/>
              <p:nvPr/>
            </p:nvSpPr>
            <p:spPr>
              <a:xfrm>
                <a:off x="6200640" y="4360680"/>
                <a:ext cx="399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Line 51"/>
              <p:cNvSpPr/>
              <p:nvPr/>
            </p:nvSpPr>
            <p:spPr>
              <a:xfrm>
                <a:off x="6200640" y="5006880"/>
                <a:ext cx="399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Line 52"/>
              <p:cNvSpPr/>
              <p:nvPr/>
            </p:nvSpPr>
            <p:spPr>
              <a:xfrm>
                <a:off x="7210440" y="561168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Line 53"/>
              <p:cNvSpPr/>
              <p:nvPr/>
            </p:nvSpPr>
            <p:spPr>
              <a:xfrm>
                <a:off x="6703920" y="561168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Line 54"/>
              <p:cNvSpPr/>
              <p:nvPr/>
            </p:nvSpPr>
            <p:spPr>
              <a:xfrm>
                <a:off x="6440400" y="560520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55"/>
              <p:cNvSpPr/>
              <p:nvPr/>
            </p:nvSpPr>
            <p:spPr>
              <a:xfrm>
                <a:off x="6961320" y="560520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Line 56"/>
              <p:cNvSpPr/>
              <p:nvPr/>
            </p:nvSpPr>
            <p:spPr>
              <a:xfrm>
                <a:off x="7473960" y="561168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Line 57"/>
              <p:cNvSpPr/>
              <p:nvPr/>
            </p:nvSpPr>
            <p:spPr>
              <a:xfrm>
                <a:off x="7745400" y="5611680"/>
                <a:ext cx="0" cy="81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Text Box 58"/>
              <p:cNvSpPr/>
              <p:nvPr/>
            </p:nvSpPr>
            <p:spPr>
              <a:xfrm>
                <a:off x="5796000" y="4279680"/>
                <a:ext cx="46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Text Box 59"/>
              <p:cNvSpPr/>
              <p:nvPr/>
            </p:nvSpPr>
            <p:spPr>
              <a:xfrm>
                <a:off x="5796000" y="4886280"/>
                <a:ext cx="463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Text Box 60"/>
              <p:cNvSpPr/>
              <p:nvPr/>
            </p:nvSpPr>
            <p:spPr>
              <a:xfrm>
                <a:off x="6121440" y="5732280"/>
                <a:ext cx="2406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0   20    30   40   50    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离家时间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分  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Text Box 61"/>
              <p:cNvSpPr/>
              <p:nvPr/>
            </p:nvSpPr>
            <p:spPr>
              <a:xfrm>
                <a:off x="5911560" y="3573360"/>
                <a:ext cx="76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离家距离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/m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7" name="Group 62"/>
            <p:cNvGrpSpPr/>
            <p:nvPr/>
          </p:nvGrpSpPr>
          <p:grpSpPr>
            <a:xfrm>
              <a:off x="6227640" y="4319640"/>
              <a:ext cx="1112760" cy="1361880"/>
              <a:chOff x="6227640" y="4319640"/>
              <a:chExt cx="1112760" cy="1361880"/>
            </a:xfrm>
          </p:grpSpPr>
          <p:sp>
            <p:nvSpPr>
              <p:cNvPr id="3128" name="Line 63"/>
              <p:cNvSpPr/>
              <p:nvPr/>
            </p:nvSpPr>
            <p:spPr>
              <a:xfrm flipV="1">
                <a:off x="6227640" y="4319640"/>
                <a:ext cx="431640" cy="1350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Line 64"/>
              <p:cNvSpPr/>
              <p:nvPr/>
            </p:nvSpPr>
            <p:spPr>
              <a:xfrm>
                <a:off x="6659280" y="4319640"/>
                <a:ext cx="2764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Line 65"/>
              <p:cNvSpPr/>
              <p:nvPr/>
            </p:nvSpPr>
            <p:spPr>
              <a:xfrm>
                <a:off x="6935760" y="4319640"/>
                <a:ext cx="404640" cy="1361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1" name="Oval 68"/>
          <p:cNvSpPr/>
          <p:nvPr/>
        </p:nvSpPr>
        <p:spPr>
          <a:xfrm>
            <a:off x="3995640" y="42926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Line 69"/>
          <p:cNvSpPr/>
          <p:nvPr/>
        </p:nvSpPr>
        <p:spPr>
          <a:xfrm>
            <a:off x="1403280" y="4338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Line 70"/>
          <p:cNvSpPr/>
          <p:nvPr/>
        </p:nvSpPr>
        <p:spPr>
          <a:xfrm>
            <a:off x="6659640" y="431964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Text Box 72"/>
          <p:cNvSpPr/>
          <p:nvPr/>
        </p:nvSpPr>
        <p:spPr>
          <a:xfrm>
            <a:off x="4572000" y="41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妈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Text Box 73"/>
          <p:cNvSpPr/>
          <p:nvPr/>
        </p:nvSpPr>
        <p:spPr>
          <a:xfrm>
            <a:off x="1762200" y="4122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小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74"/>
          <p:cNvSpPr/>
          <p:nvPr/>
        </p:nvSpPr>
        <p:spPr>
          <a:xfrm>
            <a:off x="7380360" y="4124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爸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3138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0" name="Text Box 29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7778520" cy="3700440"/>
          </a:xfrm>
          <a:prstGeom prst="rect">
            <a:avLst/>
          </a:prstGeom>
          <a:ln w="0">
            <a:noFill/>
          </a:ln>
        </p:spPr>
      </p:pic>
      <p:grpSp>
        <p:nvGrpSpPr>
          <p:cNvPr id="3151" name="Group 2"/>
          <p:cNvGrpSpPr/>
          <p:nvPr/>
        </p:nvGrpSpPr>
        <p:grpSpPr>
          <a:xfrm>
            <a:off x="6429240" y="357120"/>
            <a:ext cx="2070360" cy="432000"/>
            <a:chOff x="6429240" y="357120"/>
            <a:chExt cx="2070360" cy="432000"/>
          </a:xfrm>
        </p:grpSpPr>
        <p:grpSp>
          <p:nvGrpSpPr>
            <p:cNvPr id="3152" name="Group 3"/>
            <p:cNvGrpSpPr/>
            <p:nvPr/>
          </p:nvGrpSpPr>
          <p:grpSpPr>
            <a:xfrm>
              <a:off x="6429240" y="357120"/>
              <a:ext cx="2070360" cy="432000"/>
              <a:chOff x="6429240" y="357120"/>
              <a:chExt cx="2070360" cy="432000"/>
            </a:xfrm>
          </p:grpSpPr>
          <p:pic>
            <p:nvPicPr>
              <p:cNvPr id="3153" name="五边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240" y="357120"/>
                <a:ext cx="207036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4" name="Text Box 6"/>
              <p:cNvSpPr/>
              <p:nvPr/>
            </p:nvSpPr>
            <p:spPr>
              <a:xfrm>
                <a:off x="6466320" y="384480"/>
                <a:ext cx="203328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5" name="五边形 4"/>
            <p:cNvSpPr/>
            <p:nvPr/>
          </p:nvSpPr>
          <p:spPr>
            <a:xfrm>
              <a:off x="6466320" y="384480"/>
              <a:ext cx="181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心灵感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6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497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49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9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0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探究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1" name="TextBox 19"/>
          <p:cNvSpPr/>
          <p:nvPr/>
        </p:nvSpPr>
        <p:spPr>
          <a:xfrm>
            <a:off x="1143000" y="207180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置与方向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TextBox 20"/>
          <p:cNvSpPr/>
          <p:nvPr/>
        </p:nvSpPr>
        <p:spPr>
          <a:xfrm>
            <a:off x="1143000" y="285768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用方向和距离表示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Box 21"/>
          <p:cNvSpPr/>
          <p:nvPr/>
        </p:nvSpPr>
        <p:spPr>
          <a:xfrm>
            <a:off x="1143000" y="364320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在描述路线时，参照点是不断变动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0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06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观察思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9" name="Text Box 5"/>
          <p:cNvSpPr/>
          <p:nvPr/>
        </p:nvSpPr>
        <p:spPr>
          <a:xfrm>
            <a:off x="2843280" y="155736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确定位置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Line 3"/>
          <p:cNvSpPr/>
          <p:nvPr/>
        </p:nvSpPr>
        <p:spPr>
          <a:xfrm>
            <a:off x="2417760" y="4165560"/>
            <a:ext cx="3621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Line 4"/>
          <p:cNvSpPr/>
          <p:nvPr/>
        </p:nvSpPr>
        <p:spPr>
          <a:xfrm>
            <a:off x="4168800" y="2790720"/>
            <a:ext cx="0" cy="2860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Oval 5"/>
          <p:cNvSpPr/>
          <p:nvPr/>
        </p:nvSpPr>
        <p:spPr>
          <a:xfrm>
            <a:off x="4127400" y="412740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Line 6"/>
          <p:cNvSpPr/>
          <p:nvPr/>
        </p:nvSpPr>
        <p:spPr>
          <a:xfrm flipV="1">
            <a:off x="6157800" y="2752200"/>
            <a:ext cx="0" cy="298440"/>
          </a:xfrm>
          <a:prstGeom prst="line">
            <a:avLst/>
          </a:prstGeom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Text Box 7"/>
          <p:cNvSpPr/>
          <p:nvPr/>
        </p:nvSpPr>
        <p:spPr>
          <a:xfrm>
            <a:off x="5940360" y="23493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Text Box 8"/>
          <p:cNvSpPr/>
          <p:nvPr/>
        </p:nvSpPr>
        <p:spPr>
          <a:xfrm>
            <a:off x="4168800" y="390528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学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Text Box 9"/>
          <p:cNvSpPr/>
          <p:nvPr/>
        </p:nvSpPr>
        <p:spPr>
          <a:xfrm>
            <a:off x="5202360" y="505620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东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Text Box 10"/>
          <p:cNvSpPr/>
          <p:nvPr/>
        </p:nvSpPr>
        <p:spPr>
          <a:xfrm>
            <a:off x="2855880" y="301320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西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Text Box 11"/>
          <p:cNvSpPr/>
          <p:nvPr/>
        </p:nvSpPr>
        <p:spPr>
          <a:xfrm>
            <a:off x="4964040" y="308772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东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Text Box 12"/>
          <p:cNvSpPr/>
          <p:nvPr/>
        </p:nvSpPr>
        <p:spPr>
          <a:xfrm>
            <a:off x="2536920" y="5019840"/>
            <a:ext cx="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西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Text Box 13"/>
          <p:cNvSpPr/>
          <p:nvPr/>
        </p:nvSpPr>
        <p:spPr>
          <a:xfrm>
            <a:off x="4089240" y="249228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Text Box 14"/>
          <p:cNvSpPr/>
          <p:nvPr/>
        </p:nvSpPr>
        <p:spPr>
          <a:xfrm>
            <a:off x="4208400" y="561348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Text Box 15"/>
          <p:cNvSpPr/>
          <p:nvPr/>
        </p:nvSpPr>
        <p:spPr>
          <a:xfrm>
            <a:off x="1979640" y="416556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Text Box 16"/>
          <p:cNvSpPr/>
          <p:nvPr/>
        </p:nvSpPr>
        <p:spPr>
          <a:xfrm>
            <a:off x="6039000" y="427680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25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26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7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8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观察思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9" name="组合 32"/>
          <p:cNvGrpSpPr/>
          <p:nvPr/>
        </p:nvGrpSpPr>
        <p:grpSpPr>
          <a:xfrm>
            <a:off x="1692360" y="1557360"/>
            <a:ext cx="6048360" cy="4724280"/>
            <a:chOff x="1692360" y="1557360"/>
            <a:chExt cx="6048360" cy="4724280"/>
          </a:xfrm>
        </p:grpSpPr>
        <p:pic>
          <p:nvPicPr>
            <p:cNvPr id="2530" name="Picture 8" descr="ta1"/>
            <p:cNvPicPr/>
            <p:nvPr/>
          </p:nvPicPr>
          <p:blipFill>
            <a:blip r:embed="rId2"/>
            <a:stretch/>
          </p:blipFill>
          <p:spPr>
            <a:xfrm>
              <a:off x="5113080" y="2608560"/>
              <a:ext cx="794520" cy="75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1" name="Picture 9" descr="ta2"/>
            <p:cNvPicPr/>
            <p:nvPr/>
          </p:nvPicPr>
          <p:blipFill>
            <a:blip r:embed="rId3"/>
            <a:stretch/>
          </p:blipFill>
          <p:spPr>
            <a:xfrm>
              <a:off x="2424960" y="2551320"/>
              <a:ext cx="97776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2" name="Picture 13" descr="chuan"/>
            <p:cNvPicPr/>
            <p:nvPr/>
          </p:nvPicPr>
          <p:blipFill>
            <a:blip r:embed="rId4"/>
            <a:stretch/>
          </p:blipFill>
          <p:spPr>
            <a:xfrm>
              <a:off x="3831120" y="3704400"/>
              <a:ext cx="1589040" cy="15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3" name="Line 22"/>
            <p:cNvSpPr/>
            <p:nvPr/>
          </p:nvSpPr>
          <p:spPr>
            <a:xfrm flipV="1">
              <a:off x="4624200" y="2435040"/>
              <a:ext cx="0" cy="1962360"/>
            </a:xfrm>
            <a:prstGeom prst="line">
              <a:avLst/>
            </a:prstGeom>
            <a:ln w="34920">
              <a:solidFill>
                <a:srgbClr val="00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Line 23"/>
            <p:cNvSpPr/>
            <p:nvPr/>
          </p:nvSpPr>
          <p:spPr>
            <a:xfrm flipV="1">
              <a:off x="4624200" y="3127680"/>
              <a:ext cx="793080" cy="1270080"/>
            </a:xfrm>
            <a:prstGeom prst="line">
              <a:avLst/>
            </a:prstGeom>
            <a:ln w="349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Line 24"/>
            <p:cNvSpPr/>
            <p:nvPr/>
          </p:nvSpPr>
          <p:spPr>
            <a:xfrm flipH="1" flipV="1">
              <a:off x="2913480" y="3127680"/>
              <a:ext cx="1710360" cy="1270080"/>
            </a:xfrm>
            <a:prstGeom prst="line">
              <a:avLst/>
            </a:prstGeom>
            <a:ln w="349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 Box 25"/>
            <p:cNvSpPr/>
            <p:nvPr/>
          </p:nvSpPr>
          <p:spPr>
            <a:xfrm>
              <a:off x="4320000" y="2031840"/>
              <a:ext cx="611280" cy="459720"/>
            </a:xfrm>
            <a:prstGeom prst="rect">
              <a:avLst/>
            </a:prstGeom>
            <a:noFill/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Text Box 26"/>
            <p:cNvSpPr/>
            <p:nvPr/>
          </p:nvSpPr>
          <p:spPr>
            <a:xfrm>
              <a:off x="4440960" y="155736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宋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Text Box 27"/>
            <p:cNvSpPr/>
            <p:nvPr/>
          </p:nvSpPr>
          <p:spPr>
            <a:xfrm>
              <a:off x="5724720" y="2868120"/>
              <a:ext cx="9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灯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Text Box 28"/>
            <p:cNvSpPr/>
            <p:nvPr/>
          </p:nvSpPr>
          <p:spPr>
            <a:xfrm>
              <a:off x="2058480" y="2809440"/>
              <a:ext cx="9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灯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0" name="Picture 29" descr="dao"/>
            <p:cNvPicPr/>
            <p:nvPr/>
          </p:nvPicPr>
          <p:blipFill>
            <a:blip r:embed="rId5"/>
            <a:stretch/>
          </p:blipFill>
          <p:spPr>
            <a:xfrm>
              <a:off x="5786640" y="5234400"/>
              <a:ext cx="1404720" cy="6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Line 32"/>
            <p:cNvSpPr/>
            <p:nvPr/>
          </p:nvSpPr>
          <p:spPr>
            <a:xfrm>
              <a:off x="1692360" y="4398120"/>
              <a:ext cx="6048360" cy="0"/>
            </a:xfrm>
            <a:prstGeom prst="line">
              <a:avLst/>
            </a:prstGeom>
            <a:ln w="349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Line 33"/>
            <p:cNvSpPr/>
            <p:nvPr/>
          </p:nvSpPr>
          <p:spPr>
            <a:xfrm>
              <a:off x="4624200" y="4398120"/>
              <a:ext cx="0" cy="1883520"/>
            </a:xfrm>
            <a:prstGeom prst="line">
              <a:avLst/>
            </a:prstGeom>
            <a:ln w="349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3" name="Group 2"/>
          <p:cNvGrpSpPr/>
          <p:nvPr/>
        </p:nvGrpSpPr>
        <p:grpSpPr>
          <a:xfrm>
            <a:off x="250920" y="836640"/>
            <a:ext cx="6842160" cy="1080720"/>
            <a:chOff x="250920" y="836640"/>
            <a:chExt cx="6842160" cy="1080720"/>
          </a:xfrm>
        </p:grpSpPr>
        <p:sp>
          <p:nvSpPr>
            <p:cNvPr id="2544" name="Oval 3"/>
            <p:cNvSpPr/>
            <p:nvPr/>
          </p:nvSpPr>
          <p:spPr>
            <a:xfrm>
              <a:off x="250920" y="98244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Oval 4"/>
            <p:cNvSpPr/>
            <p:nvPr/>
          </p:nvSpPr>
          <p:spPr>
            <a:xfrm>
              <a:off x="1228680" y="97596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Oval 5"/>
            <p:cNvSpPr/>
            <p:nvPr/>
          </p:nvSpPr>
          <p:spPr>
            <a:xfrm>
              <a:off x="1763640" y="92412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Oval 6"/>
            <p:cNvSpPr/>
            <p:nvPr/>
          </p:nvSpPr>
          <p:spPr>
            <a:xfrm>
              <a:off x="2227320" y="92412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Oval 7"/>
            <p:cNvSpPr/>
            <p:nvPr/>
          </p:nvSpPr>
          <p:spPr>
            <a:xfrm>
              <a:off x="2951280" y="92412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Oval 8"/>
            <p:cNvSpPr/>
            <p:nvPr/>
          </p:nvSpPr>
          <p:spPr>
            <a:xfrm>
              <a:off x="3378240" y="836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Oval 9"/>
            <p:cNvSpPr/>
            <p:nvPr/>
          </p:nvSpPr>
          <p:spPr>
            <a:xfrm>
              <a:off x="3892320" y="9241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Oval 10"/>
            <p:cNvSpPr/>
            <p:nvPr/>
          </p:nvSpPr>
          <p:spPr>
            <a:xfrm>
              <a:off x="4214880" y="83664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Oval 11"/>
            <p:cNvSpPr/>
            <p:nvPr/>
          </p:nvSpPr>
          <p:spPr>
            <a:xfrm>
              <a:off x="4714920" y="100656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Oval 12"/>
            <p:cNvSpPr/>
            <p:nvPr/>
          </p:nvSpPr>
          <p:spPr>
            <a:xfrm>
              <a:off x="5183280" y="92412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Oval 13"/>
            <p:cNvSpPr/>
            <p:nvPr/>
          </p:nvSpPr>
          <p:spPr>
            <a:xfrm>
              <a:off x="5888160" y="836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Oval 14"/>
            <p:cNvSpPr/>
            <p:nvPr/>
          </p:nvSpPr>
          <p:spPr>
            <a:xfrm>
              <a:off x="6682320" y="92412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6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57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58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9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0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1" name="Picture 9" descr="未标题1拷贝副本"/>
          <p:cNvPicPr/>
          <p:nvPr/>
        </p:nvPicPr>
        <p:blipFill>
          <a:blip r:embed="rId2"/>
          <a:stretch/>
        </p:blipFill>
        <p:spPr>
          <a:xfrm>
            <a:off x="2700360" y="1557360"/>
            <a:ext cx="5406840" cy="32446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562" name="Text Box 3"/>
          <p:cNvSpPr/>
          <p:nvPr/>
        </p:nvSpPr>
        <p:spPr>
          <a:xfrm>
            <a:off x="4822920" y="2036880"/>
            <a:ext cx="576000" cy="3988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Text Box 4"/>
          <p:cNvSpPr/>
          <p:nvPr/>
        </p:nvSpPr>
        <p:spPr>
          <a:xfrm>
            <a:off x="6451560" y="23241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灯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Text Box 5"/>
          <p:cNvSpPr/>
          <p:nvPr/>
        </p:nvSpPr>
        <p:spPr>
          <a:xfrm>
            <a:off x="2995560" y="22161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灯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Text Box 6"/>
          <p:cNvSpPr/>
          <p:nvPr/>
        </p:nvSpPr>
        <p:spPr>
          <a:xfrm>
            <a:off x="4871880" y="155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宋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Text Box 7"/>
          <p:cNvSpPr/>
          <p:nvPr/>
        </p:nvSpPr>
        <p:spPr>
          <a:xfrm>
            <a:off x="5081760" y="41958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轮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7" name="Picture 8" descr="bilichi"/>
          <p:cNvPicPr/>
          <p:nvPr/>
        </p:nvPicPr>
        <p:blipFill>
          <a:blip r:embed="rId3"/>
          <a:stretch/>
        </p:blipFill>
        <p:spPr>
          <a:xfrm>
            <a:off x="5218200" y="4175280"/>
            <a:ext cx="4360680" cy="1269720"/>
          </a:xfrm>
          <a:prstGeom prst="rect">
            <a:avLst/>
          </a:prstGeom>
          <a:ln w="0">
            <a:noFill/>
          </a:ln>
        </p:spPr>
      </p:pic>
      <p:sp>
        <p:nvSpPr>
          <p:cNvPr id="2568" name="Arc 11"/>
          <p:cNvSpPr/>
          <p:nvPr/>
        </p:nvSpPr>
        <p:spPr>
          <a:xfrm>
            <a:off x="5126040" y="3875040"/>
            <a:ext cx="150840" cy="763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Text Box 13"/>
          <p:cNvSpPr/>
          <p:nvPr/>
        </p:nvSpPr>
        <p:spPr>
          <a:xfrm>
            <a:off x="250920" y="501336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（１）灯塔１在（　　）的（　）偏（　）（　　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方向的（　）千米处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Text Box 21"/>
          <p:cNvSpPr/>
          <p:nvPr/>
        </p:nvSpPr>
        <p:spPr>
          <a:xfrm>
            <a:off x="250920" y="551808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（２）灯塔２在轮船的（　）偏（　）（　　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方向的（　）千米处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 Box 22"/>
          <p:cNvSpPr/>
          <p:nvPr/>
        </p:nvSpPr>
        <p:spPr>
          <a:xfrm>
            <a:off x="46836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从上图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Text Box 23"/>
          <p:cNvSpPr/>
          <p:nvPr/>
        </p:nvSpPr>
        <p:spPr>
          <a:xfrm>
            <a:off x="2268360" y="5013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轮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Text Box 24"/>
          <p:cNvSpPr/>
          <p:nvPr/>
        </p:nvSpPr>
        <p:spPr>
          <a:xfrm>
            <a:off x="3564000" y="5013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Text Box 25"/>
          <p:cNvSpPr/>
          <p:nvPr/>
        </p:nvSpPr>
        <p:spPr>
          <a:xfrm>
            <a:off x="4572000" y="5013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Text Box 26"/>
          <p:cNvSpPr/>
          <p:nvPr/>
        </p:nvSpPr>
        <p:spPr>
          <a:xfrm>
            <a:off x="5364000" y="5013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３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Text Box 27"/>
          <p:cNvSpPr/>
          <p:nvPr/>
        </p:nvSpPr>
        <p:spPr>
          <a:xfrm>
            <a:off x="7165800" y="5013360"/>
            <a:ext cx="5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６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Text Box 28"/>
          <p:cNvSpPr/>
          <p:nvPr/>
        </p:nvSpPr>
        <p:spPr>
          <a:xfrm>
            <a:off x="3059280" y="55180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Text Box 29"/>
          <p:cNvSpPr/>
          <p:nvPr/>
        </p:nvSpPr>
        <p:spPr>
          <a:xfrm>
            <a:off x="4068720" y="55180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Text Box 30"/>
          <p:cNvSpPr/>
          <p:nvPr/>
        </p:nvSpPr>
        <p:spPr>
          <a:xfrm>
            <a:off x="4859280" y="55180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５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Text Box 31"/>
          <p:cNvSpPr/>
          <p:nvPr/>
        </p:nvSpPr>
        <p:spPr>
          <a:xfrm>
            <a:off x="6661080" y="5518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Arc 34"/>
          <p:cNvSpPr/>
          <p:nvPr/>
        </p:nvSpPr>
        <p:spPr>
          <a:xfrm flipH="1">
            <a:off x="4894200" y="3965400"/>
            <a:ext cx="209520" cy="130320"/>
          </a:xfrm>
          <a:custGeom>
            <a:avLst/>
            <a:gdLst/>
            <a:ahLst/>
            <a:rect l="l" t="t" r="r" b="b"/>
            <a:pathLst>
              <a:path fill="none" w="21600" h="2508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765"/>
                  <a:pt x="21505" y="23929"/>
                  <a:pt x="21317" y="25079"/>
                </a:cubicBezTo>
              </a:path>
              <a:path stroke="0" w="21600" h="2508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765"/>
                  <a:pt x="21505" y="23929"/>
                  <a:pt x="21317" y="25079"/>
                </a:cubicBez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Text Box 35"/>
          <p:cNvSpPr/>
          <p:nvPr/>
        </p:nvSpPr>
        <p:spPr>
          <a:xfrm>
            <a:off x="4695840" y="369720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55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Text Box 36"/>
          <p:cNvSpPr/>
          <p:nvPr/>
        </p:nvSpPr>
        <p:spPr>
          <a:xfrm>
            <a:off x="5119560" y="34592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0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4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585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59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599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2" name="Group 17"/>
          <p:cNvGrpSpPr/>
          <p:nvPr/>
        </p:nvGrpSpPr>
        <p:grpSpPr>
          <a:xfrm>
            <a:off x="2629080" y="1701720"/>
            <a:ext cx="4968000" cy="3599640"/>
            <a:chOff x="2629080" y="1701720"/>
            <a:chExt cx="4968000" cy="3599640"/>
          </a:xfrm>
        </p:grpSpPr>
        <p:sp>
          <p:nvSpPr>
            <p:cNvPr id="2603" name="Line 18"/>
            <p:cNvSpPr/>
            <p:nvPr/>
          </p:nvSpPr>
          <p:spPr>
            <a:xfrm>
              <a:off x="2629080" y="3722760"/>
              <a:ext cx="4968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Line 19"/>
            <p:cNvSpPr/>
            <p:nvPr/>
          </p:nvSpPr>
          <p:spPr>
            <a:xfrm>
              <a:off x="4934520" y="1701720"/>
              <a:ext cx="0" cy="3599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5" name="Text Box 23"/>
          <p:cNvSpPr/>
          <p:nvPr/>
        </p:nvSpPr>
        <p:spPr>
          <a:xfrm>
            <a:off x="3863880" y="372600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Line 24"/>
          <p:cNvSpPr/>
          <p:nvPr/>
        </p:nvSpPr>
        <p:spPr>
          <a:xfrm flipH="1" flipV="1">
            <a:off x="2927160" y="2361960"/>
            <a:ext cx="1989000" cy="13366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Text Box 25"/>
          <p:cNvSpPr/>
          <p:nvPr/>
        </p:nvSpPr>
        <p:spPr>
          <a:xfrm>
            <a:off x="2279520" y="207000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林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Freeform 26"/>
          <p:cNvSpPr/>
          <p:nvPr/>
        </p:nvSpPr>
        <p:spPr>
          <a:xfrm>
            <a:off x="4368960" y="3443400"/>
            <a:ext cx="144360" cy="287280"/>
          </a:xfrm>
          <a:custGeom>
            <a:avLst/>
            <a:gdLst/>
            <a:ahLst/>
            <a:rect l="l" t="t" r="r" b="b"/>
            <a:pathLst>
              <a:path w="80" h="127">
                <a:moveTo>
                  <a:pt x="80" y="0"/>
                </a:moveTo>
                <a:cubicBezTo>
                  <a:pt x="63" y="3"/>
                  <a:pt x="14" y="1"/>
                  <a:pt x="9" y="32"/>
                </a:cubicBezTo>
                <a:cubicBezTo>
                  <a:pt x="0" y="87"/>
                  <a:pt x="47" y="111"/>
                  <a:pt x="17" y="127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Text Box 27"/>
          <p:cNvSpPr/>
          <p:nvPr/>
        </p:nvSpPr>
        <p:spPr>
          <a:xfrm>
            <a:off x="3649680" y="3222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Text Box 28"/>
          <p:cNvSpPr/>
          <p:nvPr/>
        </p:nvSpPr>
        <p:spPr>
          <a:xfrm>
            <a:off x="3492360" y="257976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Text Box 29"/>
          <p:cNvSpPr/>
          <p:nvPr/>
        </p:nvSpPr>
        <p:spPr>
          <a:xfrm>
            <a:off x="468360" y="5516640"/>
            <a:ext cx="83516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林家在学校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方向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矩形 51"/>
          <p:cNvSpPr/>
          <p:nvPr/>
        </p:nvSpPr>
        <p:spPr>
          <a:xfrm>
            <a:off x="2785680" y="537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矩形 52"/>
          <p:cNvSpPr/>
          <p:nvPr/>
        </p:nvSpPr>
        <p:spPr>
          <a:xfrm>
            <a:off x="4575960" y="5445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矩形 53"/>
          <p:cNvSpPr/>
          <p:nvPr/>
        </p:nvSpPr>
        <p:spPr>
          <a:xfrm>
            <a:off x="3721320" y="537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矩形 54"/>
          <p:cNvSpPr/>
          <p:nvPr/>
        </p:nvSpPr>
        <p:spPr>
          <a:xfrm>
            <a:off x="6592680" y="53737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6" name="Group 2"/>
          <p:cNvGrpSpPr/>
          <p:nvPr/>
        </p:nvGrpSpPr>
        <p:grpSpPr>
          <a:xfrm>
            <a:off x="357120" y="857160"/>
            <a:ext cx="6842160" cy="1080720"/>
            <a:chOff x="357120" y="857160"/>
            <a:chExt cx="6842160" cy="1080720"/>
          </a:xfrm>
        </p:grpSpPr>
        <p:sp>
          <p:nvSpPr>
            <p:cNvPr id="2617" name="Oval 3"/>
            <p:cNvSpPr/>
            <p:nvPr/>
          </p:nvSpPr>
          <p:spPr>
            <a:xfrm>
              <a:off x="357120" y="1002960"/>
              <a:ext cx="1173240" cy="9349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Oval 4"/>
            <p:cNvSpPr/>
            <p:nvPr/>
          </p:nvSpPr>
          <p:spPr>
            <a:xfrm>
              <a:off x="1334880" y="996480"/>
              <a:ext cx="60012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Oval 5"/>
            <p:cNvSpPr/>
            <p:nvPr/>
          </p:nvSpPr>
          <p:spPr>
            <a:xfrm>
              <a:off x="1869840" y="944640"/>
              <a:ext cx="59976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Oval 6"/>
            <p:cNvSpPr/>
            <p:nvPr/>
          </p:nvSpPr>
          <p:spPr>
            <a:xfrm>
              <a:off x="2333520" y="944640"/>
              <a:ext cx="782280" cy="572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Oval 7"/>
            <p:cNvSpPr/>
            <p:nvPr/>
          </p:nvSpPr>
          <p:spPr>
            <a:xfrm>
              <a:off x="3057480" y="94464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Oval 8"/>
            <p:cNvSpPr/>
            <p:nvPr/>
          </p:nvSpPr>
          <p:spPr>
            <a:xfrm>
              <a:off x="3484440" y="857160"/>
              <a:ext cx="6476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Oval 9"/>
            <p:cNvSpPr/>
            <p:nvPr/>
          </p:nvSpPr>
          <p:spPr>
            <a:xfrm>
              <a:off x="3998520" y="94464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Oval 10"/>
            <p:cNvSpPr/>
            <p:nvPr/>
          </p:nvSpPr>
          <p:spPr>
            <a:xfrm>
              <a:off x="4321080" y="857160"/>
              <a:ext cx="6462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Oval 11"/>
            <p:cNvSpPr/>
            <p:nvPr/>
          </p:nvSpPr>
          <p:spPr>
            <a:xfrm>
              <a:off x="4821120" y="102708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Oval 12"/>
            <p:cNvSpPr/>
            <p:nvPr/>
          </p:nvSpPr>
          <p:spPr>
            <a:xfrm>
              <a:off x="5289480" y="94464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13"/>
            <p:cNvSpPr/>
            <p:nvPr/>
          </p:nvSpPr>
          <p:spPr>
            <a:xfrm>
              <a:off x="5994360" y="857160"/>
              <a:ext cx="82224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14"/>
            <p:cNvSpPr/>
            <p:nvPr/>
          </p:nvSpPr>
          <p:spPr>
            <a:xfrm>
              <a:off x="6788520" y="944640"/>
              <a:ext cx="410760" cy="3790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30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31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2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3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4" name="Group 4"/>
          <p:cNvGrpSpPr/>
          <p:nvPr/>
        </p:nvGrpSpPr>
        <p:grpSpPr>
          <a:xfrm>
            <a:off x="3079800" y="2330280"/>
            <a:ext cx="2736360" cy="2447640"/>
            <a:chOff x="3079800" y="2330280"/>
            <a:chExt cx="2736360" cy="2447640"/>
          </a:xfrm>
        </p:grpSpPr>
        <p:sp>
          <p:nvSpPr>
            <p:cNvPr id="2635" name="Line 5"/>
            <p:cNvSpPr/>
            <p:nvPr/>
          </p:nvSpPr>
          <p:spPr>
            <a:xfrm>
              <a:off x="3079800" y="3556080"/>
              <a:ext cx="2736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Line 6"/>
            <p:cNvSpPr/>
            <p:nvPr/>
          </p:nvSpPr>
          <p:spPr>
            <a:xfrm>
              <a:off x="4396320" y="2330280"/>
              <a:ext cx="0" cy="2447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7" name="Rectangle 15"/>
          <p:cNvSpPr/>
          <p:nvPr/>
        </p:nvSpPr>
        <p:spPr>
          <a:xfrm>
            <a:off x="1763640" y="3621240"/>
            <a:ext cx="273528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Text Box 7"/>
          <p:cNvSpPr/>
          <p:nvPr/>
        </p:nvSpPr>
        <p:spPr>
          <a:xfrm>
            <a:off x="4223520" y="182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Text Box 8"/>
          <p:cNvSpPr/>
          <p:nvPr/>
        </p:nvSpPr>
        <p:spPr>
          <a:xfrm>
            <a:off x="2566080" y="326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Text Box 9"/>
          <p:cNvSpPr/>
          <p:nvPr/>
        </p:nvSpPr>
        <p:spPr>
          <a:xfrm>
            <a:off x="6095160" y="333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Text Box 10"/>
          <p:cNvSpPr/>
          <p:nvPr/>
        </p:nvSpPr>
        <p:spPr>
          <a:xfrm>
            <a:off x="3997080" y="3625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灯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Text Box 11"/>
          <p:cNvSpPr/>
          <p:nvPr/>
        </p:nvSpPr>
        <p:spPr>
          <a:xfrm>
            <a:off x="5302800" y="2185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Line 12"/>
          <p:cNvSpPr/>
          <p:nvPr/>
        </p:nvSpPr>
        <p:spPr>
          <a:xfrm flipV="1">
            <a:off x="4376880" y="2690280"/>
            <a:ext cx="863280" cy="8636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Freeform 13"/>
          <p:cNvSpPr/>
          <p:nvPr/>
        </p:nvSpPr>
        <p:spPr>
          <a:xfrm>
            <a:off x="4592520" y="3265560"/>
            <a:ext cx="144720" cy="288720"/>
          </a:xfrm>
          <a:custGeom>
            <a:avLst/>
            <a:gdLst/>
            <a:ahLst/>
            <a:rect l="l" t="t" r="r" b="b"/>
            <a:pathLst>
              <a:path w="102" h="174">
                <a:moveTo>
                  <a:pt x="64" y="0"/>
                </a:moveTo>
                <a:cubicBezTo>
                  <a:pt x="70" y="20"/>
                  <a:pt x="102" y="99"/>
                  <a:pt x="91" y="128"/>
                </a:cubicBezTo>
                <a:cubicBezTo>
                  <a:pt x="80" y="157"/>
                  <a:pt x="19" y="165"/>
                  <a:pt x="0" y="174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Text Box 14"/>
          <p:cNvSpPr/>
          <p:nvPr/>
        </p:nvSpPr>
        <p:spPr>
          <a:xfrm>
            <a:off x="5097600" y="299736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Text Box 16"/>
          <p:cNvSpPr/>
          <p:nvPr/>
        </p:nvSpPr>
        <p:spPr>
          <a:xfrm>
            <a:off x="1100880" y="5084640"/>
            <a:ext cx="67276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岛在灯塔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方向上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矩形 40"/>
          <p:cNvSpPr/>
          <p:nvPr/>
        </p:nvSpPr>
        <p:spPr>
          <a:xfrm>
            <a:off x="2569680" y="494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矩形 41"/>
          <p:cNvSpPr/>
          <p:nvPr/>
        </p:nvSpPr>
        <p:spPr>
          <a:xfrm>
            <a:off x="4010400" y="494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矩形 42"/>
          <p:cNvSpPr/>
          <p:nvPr/>
        </p:nvSpPr>
        <p:spPr>
          <a:xfrm>
            <a:off x="5367960" y="501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Text Box 18"/>
          <p:cNvSpPr/>
          <p:nvPr/>
        </p:nvSpPr>
        <p:spPr>
          <a:xfrm>
            <a:off x="1122480" y="4869000"/>
            <a:ext cx="6877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店在商场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方向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1" name="组合 11279"/>
          <p:cNvGrpSpPr/>
          <p:nvPr/>
        </p:nvGrpSpPr>
        <p:grpSpPr>
          <a:xfrm>
            <a:off x="612720" y="1773360"/>
            <a:ext cx="7699320" cy="2880360"/>
            <a:chOff x="612720" y="1773360"/>
            <a:chExt cx="7699320" cy="2880360"/>
          </a:xfrm>
        </p:grpSpPr>
        <p:sp>
          <p:nvSpPr>
            <p:cNvPr id="2652" name="Line 4"/>
            <p:cNvSpPr/>
            <p:nvPr/>
          </p:nvSpPr>
          <p:spPr>
            <a:xfrm flipV="1">
              <a:off x="1763640" y="2707560"/>
              <a:ext cx="1944360" cy="93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Line 5"/>
            <p:cNvSpPr/>
            <p:nvPr/>
          </p:nvSpPr>
          <p:spPr>
            <a:xfrm>
              <a:off x="3708360" y="2707920"/>
              <a:ext cx="2520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Line 6"/>
            <p:cNvSpPr/>
            <p:nvPr/>
          </p:nvSpPr>
          <p:spPr>
            <a:xfrm>
              <a:off x="1763640" y="364464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7"/>
            <p:cNvSpPr/>
            <p:nvPr/>
          </p:nvSpPr>
          <p:spPr>
            <a:xfrm>
              <a:off x="2195640" y="3428640"/>
              <a:ext cx="72720" cy="21780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64" y="0"/>
                  </a:moveTo>
                  <a:cubicBezTo>
                    <a:pt x="70" y="20"/>
                    <a:pt x="102" y="99"/>
                    <a:pt x="91" y="128"/>
                  </a:cubicBezTo>
                  <a:cubicBezTo>
                    <a:pt x="80" y="157"/>
                    <a:pt x="19" y="165"/>
                    <a:pt x="0" y="17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Text Box 8"/>
            <p:cNvSpPr/>
            <p:nvPr/>
          </p:nvSpPr>
          <p:spPr>
            <a:xfrm>
              <a:off x="1096200" y="3716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商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Text Box 9"/>
            <p:cNvSpPr/>
            <p:nvPr/>
          </p:nvSpPr>
          <p:spPr>
            <a:xfrm>
              <a:off x="3257280" y="2205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书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Text Box 10"/>
            <p:cNvSpPr/>
            <p:nvPr/>
          </p:nvSpPr>
          <p:spPr>
            <a:xfrm>
              <a:off x="6352920" y="2133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学校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Text Box 11"/>
            <p:cNvSpPr/>
            <p:nvPr/>
          </p:nvSpPr>
          <p:spPr>
            <a:xfrm>
              <a:off x="1862640" y="270792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米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Text Box 12"/>
            <p:cNvSpPr/>
            <p:nvPr/>
          </p:nvSpPr>
          <p:spPr>
            <a:xfrm>
              <a:off x="2434680" y="3212640"/>
              <a:ext cx="64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Line 13"/>
            <p:cNvSpPr/>
            <p:nvPr/>
          </p:nvSpPr>
          <p:spPr>
            <a:xfrm>
              <a:off x="3708360" y="270792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Text Box 14"/>
            <p:cNvSpPr/>
            <p:nvPr/>
          </p:nvSpPr>
          <p:spPr>
            <a:xfrm>
              <a:off x="3226680" y="2923920"/>
              <a:ext cx="64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15"/>
            <p:cNvSpPr/>
            <p:nvPr/>
          </p:nvSpPr>
          <p:spPr>
            <a:xfrm>
              <a:off x="3564360" y="2781000"/>
              <a:ext cx="163080" cy="147960"/>
            </a:xfrm>
            <a:custGeom>
              <a:avLst/>
              <a:gdLst/>
              <a:ahLst/>
              <a:rect l="l" t="t" r="r" b="b"/>
              <a:pathLst>
                <a:path w="103" h="48">
                  <a:moveTo>
                    <a:pt x="0" y="0"/>
                  </a:moveTo>
                  <a:cubicBezTo>
                    <a:pt x="3" y="8"/>
                    <a:pt x="1" y="19"/>
                    <a:pt x="8" y="24"/>
                  </a:cubicBezTo>
                  <a:cubicBezTo>
                    <a:pt x="31" y="41"/>
                    <a:pt x="73" y="48"/>
                    <a:pt x="103" y="4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Line 16"/>
            <p:cNvSpPr/>
            <p:nvPr/>
          </p:nvSpPr>
          <p:spPr>
            <a:xfrm flipV="1">
              <a:off x="8172720" y="2421000"/>
              <a:ext cx="0" cy="1079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Text Box 17"/>
            <p:cNvSpPr/>
            <p:nvPr/>
          </p:nvSpPr>
          <p:spPr>
            <a:xfrm>
              <a:off x="7948440" y="1773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6" name="Group 20"/>
            <p:cNvGrpSpPr/>
            <p:nvPr/>
          </p:nvGrpSpPr>
          <p:grpSpPr>
            <a:xfrm>
              <a:off x="1041840" y="2924640"/>
              <a:ext cx="1449720" cy="1436760"/>
              <a:chOff x="1041840" y="2924640"/>
              <a:chExt cx="1449720" cy="1436760"/>
            </a:xfrm>
          </p:grpSpPr>
          <p:sp>
            <p:nvSpPr>
              <p:cNvPr id="2667" name="Line 21"/>
              <p:cNvSpPr/>
              <p:nvPr/>
            </p:nvSpPr>
            <p:spPr>
              <a:xfrm>
                <a:off x="1041840" y="3643920"/>
                <a:ext cx="14497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Line 22"/>
              <p:cNvSpPr/>
              <p:nvPr/>
            </p:nvSpPr>
            <p:spPr>
              <a:xfrm>
                <a:off x="1739160" y="2924640"/>
                <a:ext cx="0" cy="1436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9" name="Text Box 23"/>
            <p:cNvSpPr/>
            <p:nvPr/>
          </p:nvSpPr>
          <p:spPr>
            <a:xfrm>
              <a:off x="1798200" y="4133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Text Box 24"/>
            <p:cNvSpPr/>
            <p:nvPr/>
          </p:nvSpPr>
          <p:spPr>
            <a:xfrm>
              <a:off x="2376720" y="3514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东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Text Box 25"/>
            <p:cNvSpPr/>
            <p:nvPr/>
          </p:nvSpPr>
          <p:spPr>
            <a:xfrm>
              <a:off x="612720" y="3386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Text Box 26"/>
            <p:cNvSpPr/>
            <p:nvPr/>
          </p:nvSpPr>
          <p:spPr>
            <a:xfrm>
              <a:off x="1512360" y="243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3" name="矩形 42"/>
          <p:cNvSpPr/>
          <p:nvPr/>
        </p:nvSpPr>
        <p:spPr>
          <a:xfrm>
            <a:off x="256968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矩形 43"/>
          <p:cNvSpPr/>
          <p:nvPr/>
        </p:nvSpPr>
        <p:spPr>
          <a:xfrm>
            <a:off x="401040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矩形 44"/>
          <p:cNvSpPr/>
          <p:nvPr/>
        </p:nvSpPr>
        <p:spPr>
          <a:xfrm>
            <a:off x="5080680" y="4797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矩形 45"/>
          <p:cNvSpPr/>
          <p:nvPr/>
        </p:nvSpPr>
        <p:spPr>
          <a:xfrm>
            <a:off x="7037280" y="47116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7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78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79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0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1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练习巩固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2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2" name="Group 2"/>
          <p:cNvGrpSpPr/>
          <p:nvPr/>
        </p:nvGrpSpPr>
        <p:grpSpPr>
          <a:xfrm>
            <a:off x="6500880" y="353880"/>
            <a:ext cx="2070000" cy="432000"/>
            <a:chOff x="6500880" y="353880"/>
            <a:chExt cx="2070000" cy="432000"/>
          </a:xfrm>
        </p:grpSpPr>
        <p:grpSp>
          <p:nvGrpSpPr>
            <p:cNvPr id="2683" name="Group 3"/>
            <p:cNvGrpSpPr/>
            <p:nvPr/>
          </p:nvGrpSpPr>
          <p:grpSpPr>
            <a:xfrm>
              <a:off x="6500880" y="353880"/>
              <a:ext cx="2070000" cy="432000"/>
              <a:chOff x="6500880" y="353880"/>
              <a:chExt cx="2070000" cy="432000"/>
            </a:xfrm>
          </p:grpSpPr>
          <p:pic>
            <p:nvPicPr>
              <p:cNvPr id="2684" name="五边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0880" y="353880"/>
                <a:ext cx="20700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5" name="Text Box 6"/>
              <p:cNvSpPr/>
              <p:nvPr/>
            </p:nvSpPr>
            <p:spPr>
              <a:xfrm>
                <a:off x="6537960" y="381240"/>
                <a:ext cx="203292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6" name="五边形 4"/>
            <p:cNvSpPr/>
            <p:nvPr/>
          </p:nvSpPr>
          <p:spPr>
            <a:xfrm>
              <a:off x="6537960" y="381240"/>
              <a:ext cx="1813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行楷"/>
                  <a:ea typeface="华文行楷"/>
                </a:rPr>
                <a:t>拓展提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7" name="AutoShape 9"/>
          <p:cNvSpPr/>
          <p:nvPr/>
        </p:nvSpPr>
        <p:spPr>
          <a:xfrm>
            <a:off x="1908000" y="2206800"/>
            <a:ext cx="432000" cy="409320"/>
          </a:xfrm>
          <a:custGeom>
            <a:avLst/>
            <a:gdLst/>
            <a:ahLst/>
            <a:rect l="l" t="t" r="r" b="b"/>
            <a:pathLst>
              <a:path w="431800" h="409531">
                <a:moveTo>
                  <a:pt x="0" y="156426"/>
                </a:moveTo>
                <a:lnTo>
                  <a:pt x="164934" y="156428"/>
                </a:lnTo>
                <a:lnTo>
                  <a:pt x="215900" y="0"/>
                </a:lnTo>
                <a:lnTo>
                  <a:pt x="266866" y="156428"/>
                </a:lnTo>
                <a:lnTo>
                  <a:pt x="431800" y="156426"/>
                </a:lnTo>
                <a:lnTo>
                  <a:pt x="298365" y="253103"/>
                </a:lnTo>
                <a:lnTo>
                  <a:pt x="349334" y="409530"/>
                </a:lnTo>
                <a:lnTo>
                  <a:pt x="215900" y="312852"/>
                </a:lnTo>
                <a:lnTo>
                  <a:pt x="82466" y="409530"/>
                </a:lnTo>
                <a:lnTo>
                  <a:pt x="133435" y="25310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8" name="Group 10"/>
          <p:cNvGrpSpPr/>
          <p:nvPr/>
        </p:nvGrpSpPr>
        <p:grpSpPr>
          <a:xfrm>
            <a:off x="3780000" y="5086440"/>
            <a:ext cx="287280" cy="287280"/>
            <a:chOff x="3780000" y="5086440"/>
            <a:chExt cx="287280" cy="287280"/>
          </a:xfrm>
        </p:grpSpPr>
        <p:sp>
          <p:nvSpPr>
            <p:cNvPr id="2689" name="Oval 11"/>
            <p:cNvSpPr/>
            <p:nvPr/>
          </p:nvSpPr>
          <p:spPr>
            <a:xfrm>
              <a:off x="3780000" y="5086440"/>
              <a:ext cx="287280" cy="2872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Oval 12"/>
            <p:cNvSpPr/>
            <p:nvPr/>
          </p:nvSpPr>
          <p:spPr>
            <a:xfrm>
              <a:off x="3841560" y="5148000"/>
              <a:ext cx="164160" cy="1641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Line 15"/>
          <p:cNvSpPr/>
          <p:nvPr/>
        </p:nvSpPr>
        <p:spPr>
          <a:xfrm>
            <a:off x="2124000" y="2422440"/>
            <a:ext cx="1800360" cy="2808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2" name="Group 19"/>
          <p:cNvGrpSpPr/>
          <p:nvPr/>
        </p:nvGrpSpPr>
        <p:grpSpPr>
          <a:xfrm>
            <a:off x="2989440" y="4365720"/>
            <a:ext cx="1942920" cy="1727280"/>
            <a:chOff x="2989440" y="4365720"/>
            <a:chExt cx="1942920" cy="1727280"/>
          </a:xfrm>
        </p:grpSpPr>
        <p:sp>
          <p:nvSpPr>
            <p:cNvPr id="2693" name="Line 17"/>
            <p:cNvSpPr/>
            <p:nvPr/>
          </p:nvSpPr>
          <p:spPr>
            <a:xfrm>
              <a:off x="2989440" y="523080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Line 18"/>
            <p:cNvSpPr/>
            <p:nvPr/>
          </p:nvSpPr>
          <p:spPr>
            <a:xfrm>
              <a:off x="3924000" y="4365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5" name="Group 21"/>
          <p:cNvGrpSpPr/>
          <p:nvPr/>
        </p:nvGrpSpPr>
        <p:grpSpPr>
          <a:xfrm>
            <a:off x="1189080" y="1557360"/>
            <a:ext cx="1942920" cy="1727280"/>
            <a:chOff x="1189080" y="1557360"/>
            <a:chExt cx="1942920" cy="1727280"/>
          </a:xfrm>
        </p:grpSpPr>
        <p:sp>
          <p:nvSpPr>
            <p:cNvPr id="2696" name="Line 22"/>
            <p:cNvSpPr/>
            <p:nvPr/>
          </p:nvSpPr>
          <p:spPr>
            <a:xfrm>
              <a:off x="1189080" y="242244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Line 23"/>
            <p:cNvSpPr/>
            <p:nvPr/>
          </p:nvSpPr>
          <p:spPr>
            <a:xfrm>
              <a:off x="2123640" y="1557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Line 24"/>
          <p:cNvSpPr/>
          <p:nvPr/>
        </p:nvSpPr>
        <p:spPr>
          <a:xfrm flipV="1">
            <a:off x="826920" y="2636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Text Box 25"/>
          <p:cNvSpPr/>
          <p:nvPr/>
        </p:nvSpPr>
        <p:spPr>
          <a:xfrm>
            <a:off x="613080" y="220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Text Box 27"/>
          <p:cNvSpPr/>
          <p:nvPr/>
        </p:nvSpPr>
        <p:spPr>
          <a:xfrm>
            <a:off x="2268360" y="170172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北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Text Box 28"/>
          <p:cNvSpPr/>
          <p:nvPr/>
        </p:nvSpPr>
        <p:spPr>
          <a:xfrm>
            <a:off x="3851280" y="465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上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Text Box 29"/>
          <p:cNvSpPr/>
          <p:nvPr/>
        </p:nvSpPr>
        <p:spPr>
          <a:xfrm>
            <a:off x="1836720" y="319896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Text Box 30"/>
          <p:cNvSpPr/>
          <p:nvPr/>
        </p:nvSpPr>
        <p:spPr>
          <a:xfrm>
            <a:off x="3205080" y="213372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Text Box 31"/>
          <p:cNvSpPr/>
          <p:nvPr/>
        </p:nvSpPr>
        <p:spPr>
          <a:xfrm>
            <a:off x="2413080" y="494172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Text Box 32"/>
          <p:cNvSpPr/>
          <p:nvPr/>
        </p:nvSpPr>
        <p:spPr>
          <a:xfrm>
            <a:off x="3637080" y="386244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AutoShape 34"/>
          <p:cNvSpPr/>
          <p:nvPr/>
        </p:nvSpPr>
        <p:spPr>
          <a:xfrm>
            <a:off x="5148360" y="4149720"/>
            <a:ext cx="3671640" cy="1800360"/>
          </a:xfrm>
          <a:prstGeom prst="wedgeRoundRectCallout">
            <a:avLst>
              <a:gd name="adj1" fmla="val 18870"/>
              <a:gd name="adj2" fmla="val 13935"/>
              <a:gd name="adj3" fmla="val 16667"/>
            </a:avLst>
          </a:prstGeom>
          <a:solidFill>
            <a:srgbClr val="ffcc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海在北京的南偏东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方向上，距离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AutoShape 36"/>
          <p:cNvSpPr/>
          <p:nvPr/>
        </p:nvSpPr>
        <p:spPr>
          <a:xfrm>
            <a:off x="5365800" y="1917720"/>
            <a:ext cx="3672000" cy="1870200"/>
          </a:xfrm>
          <a:prstGeom prst="wedgeRoundRectCallout">
            <a:avLst>
              <a:gd name="adj1" fmla="val 21694"/>
              <a:gd name="adj2" fmla="val -48162"/>
              <a:gd name="adj3" fmla="val 16667"/>
            </a:avLst>
          </a:prstGeom>
          <a:solidFill>
            <a:srgbClr val="cc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北京在上海的＿偏＿约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方向上，距离约＿ 千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Freeform 37"/>
          <p:cNvSpPr/>
          <p:nvPr/>
        </p:nvSpPr>
        <p:spPr>
          <a:xfrm>
            <a:off x="2117880" y="2709720"/>
            <a:ext cx="222120" cy="71640"/>
          </a:xfrm>
          <a:custGeom>
            <a:avLst/>
            <a:gdLst/>
            <a:ahLst/>
            <a:rect l="l" t="t" r="r" b="b"/>
            <a:pathLst>
              <a:path w="103" h="79">
                <a:moveTo>
                  <a:pt x="0" y="79"/>
                </a:moveTo>
                <a:cubicBezTo>
                  <a:pt x="5" y="78"/>
                  <a:pt x="74" y="71"/>
                  <a:pt x="79" y="63"/>
                </a:cubicBezTo>
                <a:cubicBezTo>
                  <a:pt x="86" y="52"/>
                  <a:pt x="82" y="36"/>
                  <a:pt x="87" y="24"/>
                </a:cubicBezTo>
                <a:cubicBezTo>
                  <a:pt x="90" y="15"/>
                  <a:pt x="103" y="0"/>
                  <a:pt x="103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Text Box 38"/>
          <p:cNvSpPr/>
          <p:nvPr/>
        </p:nvSpPr>
        <p:spPr>
          <a:xfrm>
            <a:off x="2052720" y="285444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Freeform 39"/>
          <p:cNvSpPr/>
          <p:nvPr/>
        </p:nvSpPr>
        <p:spPr>
          <a:xfrm>
            <a:off x="3720960" y="4799160"/>
            <a:ext cx="203400" cy="106200"/>
          </a:xfrm>
          <a:custGeom>
            <a:avLst/>
            <a:gdLst/>
            <a:ahLst/>
            <a:rect l="l" t="t" r="r" b="b"/>
            <a:pathLst>
              <a:path w="118" h="131">
                <a:moveTo>
                  <a:pt x="0" y="131"/>
                </a:moveTo>
                <a:cubicBezTo>
                  <a:pt x="10" y="80"/>
                  <a:pt x="17" y="66"/>
                  <a:pt x="47" y="20"/>
                </a:cubicBezTo>
                <a:cubicBezTo>
                  <a:pt x="60" y="0"/>
                  <a:pt x="94" y="12"/>
                  <a:pt x="118" y="12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Text Box 40"/>
          <p:cNvSpPr/>
          <p:nvPr/>
        </p:nvSpPr>
        <p:spPr>
          <a:xfrm>
            <a:off x="3421080" y="429408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Text Box 41"/>
          <p:cNvSpPr/>
          <p:nvPr/>
        </p:nvSpPr>
        <p:spPr>
          <a:xfrm>
            <a:off x="7706160" y="198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Text Box 42"/>
          <p:cNvSpPr/>
          <p:nvPr/>
        </p:nvSpPr>
        <p:spPr>
          <a:xfrm>
            <a:off x="8452440" y="1990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Text Box 43"/>
          <p:cNvSpPr/>
          <p:nvPr/>
        </p:nvSpPr>
        <p:spPr>
          <a:xfrm>
            <a:off x="5852160" y="2492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Text Box 44"/>
          <p:cNvSpPr/>
          <p:nvPr/>
        </p:nvSpPr>
        <p:spPr>
          <a:xfrm>
            <a:off x="6231600" y="2924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6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2:01:45Z</dcterms:created>
  <dc:creator/>
  <dc:description/>
  <dc:language>en-US</dc:language>
  <cp:lastModifiedBy>万润仪器贸易公司</cp:lastModifiedBy>
  <dcterms:modified xsi:type="dcterms:W3CDTF">2020-08-21T09:43:28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